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72400" cy="100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937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20520" y="754200"/>
            <a:ext cx="5033880" cy="37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937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32B2FFF4-BBA8-4459-A04A-98140E70823C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"/>
          <p:cNvSpPr txBox="1"/>
          <p:nvPr/>
        </p:nvSpPr>
        <p:spPr>
          <a:xfrm>
            <a:off x="38937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B0AB9C7E-0244-4B3D-8963-E31EFE9130B1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 txBox="1"/>
          <p:nvPr/>
        </p:nvSpPr>
        <p:spPr>
          <a:xfrm>
            <a:off x="-3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915840" y="4779720"/>
            <a:ext cx="5042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"/>
          <p:cNvSpPr txBox="1"/>
          <p:nvPr/>
        </p:nvSpPr>
        <p:spPr>
          <a:xfrm>
            <a:off x="38937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4D025C5A-9D62-4999-A1A6-C0A8B61D8A74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 txBox="1"/>
          <p:nvPr/>
        </p:nvSpPr>
        <p:spPr>
          <a:xfrm>
            <a:off x="-3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2152" name="PlaceHolder 2"/>
          <p:cNvSpPr>
            <a:spLocks noGrp="1"/>
          </p:cNvSpPr>
          <p:nvPr>
            <p:ph type="body"/>
          </p:nvPr>
        </p:nvSpPr>
        <p:spPr>
          <a:xfrm>
            <a:off x="915840" y="4779720"/>
            <a:ext cx="5042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"/>
          <p:cNvSpPr txBox="1"/>
          <p:nvPr/>
        </p:nvSpPr>
        <p:spPr>
          <a:xfrm>
            <a:off x="38937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41448A73-CBE3-4509-906D-980828E8A5C6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 txBox="1"/>
          <p:nvPr/>
        </p:nvSpPr>
        <p:spPr>
          <a:xfrm>
            <a:off x="-3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2156" name="PlaceHolder 2"/>
          <p:cNvSpPr>
            <a:spLocks noGrp="1"/>
          </p:cNvSpPr>
          <p:nvPr>
            <p:ph type="body"/>
          </p:nvPr>
        </p:nvSpPr>
        <p:spPr>
          <a:xfrm>
            <a:off x="915840" y="4779720"/>
            <a:ext cx="5042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DF911-5F2E-4341-9246-8DBC2868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93980-F18D-4A3C-A4E8-D79EA1F0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6F4D5-9284-4350-9DC2-F23A06FC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5B0EE-53EF-4A34-BB60-22D681F6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40C1-A095-45EE-A620-C62FF9A6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D1A5-3426-4889-A700-0F4550D0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E7E5-8F73-42C5-89BD-4B364052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11DB-CEC4-47B9-8B6A-570A40B9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3B5C-922D-493C-9A86-1E91EE58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929B-3A60-4BCA-8FED-2CEEAE56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20B4-51BB-4620-8B2D-81AFB509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26222-5335-4A2B-B816-028E0163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FD8F-3325-46FC-90AC-CA8E8BA7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850D-10A2-4BE1-B3F4-90DA1F95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CB5A-8E5F-4C8E-82BE-39CDAAED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89F4-2B41-46BF-AEBD-EA06E4A1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B96B-FFDB-4177-9F88-9B916F0D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59A52-31B1-4286-8944-27DB82E4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072EE-EA3D-4E9C-82C3-F333FFB0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588C-CC8E-406E-A622-6649578A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26D5-5274-4B75-A692-DB2636F6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666F3-079E-4354-89B4-A9170263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BFDC9-E66D-4CE0-A19F-05272A98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946CB-71FC-49B6-9C92-00BB059B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FD78-4E78-4F48-A158-AF21130F9AE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9EEF-1560-43A9-96A2-19EB673764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1A48-6B56-4ADE-BBF1-9978340EDF5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AC27-3C92-4DC4-A9C9-D34F77A7E4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376440" y="150840"/>
            <a:ext cx="2406960" cy="709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95520" y="5708520"/>
            <a:ext cx="57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Expert Panel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00" y="2604960"/>
            <a:ext cx="797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7600" y="1341360"/>
            <a:ext cx="733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EE 2004 Risultati del Progetto VPQ ISHTAR e sviluppo verso la versione TEE 2005 (Progetto HEARTS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3573000"/>
            <a:ext cx="7920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A. Agostini, M. Lelli, E. Negrenti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[ENEA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. Beltran, S. Carrese (Univ. Rome 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A. Parenti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[ASTRAN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174680" y="944640"/>
            <a:ext cx="6782040" cy="4572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28600" y="55245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trice O/D del giorno lavorativo med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eteo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=12° C; velocità vento = 1 m/s e direzione 0°; copertura nuvolosa = 7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228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AVEN  MAP  of  CONCENTRATION -  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6B353-EAAE-4862-BCBA-9672906EC50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2E2D9-03D2-4C17-A53E-5FE372A8BD09}" type="datetime1">
              <a:rPr lang="en-US"/>
              <a:t>07/31/26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e5e5ff"/>
                </a:solidFill>
                <a:latin typeface="Garamond"/>
              </a:rPr>
              <a:t>CALCOLO CONSUMI E EMISSIONI (C&amp;E)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the 'REFERENCE'   C&amp;E   estim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Per ciascuna categoria veicol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Per ciascun flusso veicol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Per tutti i tipi di flusso: transitante, parcheggiante ed insere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Stima dei  </a:t>
            </a:r>
            <a:r>
              <a:rPr b="1" lang="it-IT" sz="3200" spc="-1" strike="noStrike">
                <a:solidFill>
                  <a:srgbClr val="ffcc00"/>
                </a:solidFill>
                <a:latin typeface="Garamond"/>
              </a:rPr>
              <a:t>FATTORI CORRETTI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Moltiplicazione e aggregazione nel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7834C-B5D5-453B-A710-A2B4BDA797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F70BF-B390-4D6A-B352-89F7B73FE66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C&amp;E CALCULATION  (2/3)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‘REFERENCE’ C&amp;E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imes New Roman"/>
              </a:rPr>
              <a:t>REFERENCE’ C&amp;E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 sono i fattori C&amp;E stimati per veicoli caldi (hot vehicles), in condizioni standard: pendenza nulla, livello del mare, manutenzione media etc (e.g. espressioni proposte dal COPERT II in funzione della velocità medi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Le emissioni di riferimento a caldo sono calcolate in funzione della cinematica del veicolo scelta dall’utente 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Times New Roman"/>
              </a:rPr>
              <a:t>Dalla più semplice opzione: la velocità media, però questa opzione può indurre delle approssimazioni non sempre accettabili dagli utent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Times New Roman"/>
              </a:rPr>
              <a:t>Alla più sofisticata: Kinematics Correction Function (KCF) disponibile per il consumo, CO e VOC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CB187-4588-40BB-B9AF-C94EDA4A38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7F47C-E7AC-479A-B666-6DAE70E54F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C&amp;E CALCULATION  (3/3)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‘REFERENCE’ C&amp;E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KCF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rrel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5e5ff"/>
                </a:solidFill>
                <a:latin typeface="Garamond"/>
              </a:rPr>
              <a:t>KCF is calculated as a function of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Garamond"/>
              </a:rPr>
              <a:t>VELOCITA DEL LIN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Garamond"/>
              </a:rPr>
              <a:t>DENSIT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Garamond"/>
              </a:rPr>
              <a:t>LUNGHEZZA DEL LINK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Garamond"/>
              </a:rPr>
              <a:t>TEMPO DI VERD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I valori cosi ottenuti sono interpolati mediante il prodotto di 4 funzioni indipenden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Garamond"/>
              </a:rPr>
              <a:t>KCF =  KCF0 * d (D) * g (G) * l (L) * v (V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09681-1825-4D7A-B11C-13F23DA08C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F69E8-1A2E-4FC7-8DC8-44793C7016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533520"/>
            <a:ext cx="8399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2200" spc="-1" strike="noStrike">
                <a:solidFill>
                  <a:srgbClr val="99ff66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99ff66"/>
                </a:solidFill>
                <a:latin typeface="Garamond"/>
              </a:rPr>
              <a:t>‘</a:t>
            </a:r>
            <a:r>
              <a:rPr b="1" lang="en-US" sz="2400" spc="-1" strike="noStrike">
                <a:solidFill>
                  <a:srgbClr val="99ff66"/>
                </a:solidFill>
                <a:latin typeface="Garamond"/>
              </a:rPr>
              <a:t>KCF’  SENSITIVITY TO TRAFFIC DENSITY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1484280"/>
            <a:ext cx="8001000" cy="47642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940360" y="263700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83F61-F509-4DC8-9652-79F28366DAA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B6700-77DC-4D13-BDCD-C84D223144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229600" cy="44960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-53280" y="476280"/>
            <a:ext cx="90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FFERENZE FRA VALORI CONCENTRAZIONI MISU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 CALCULATE CON TEE - AD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734C-E2CE-4BFB-9533-212B47842F0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DFCEC-90C0-4B47-822C-C1EF9EF36F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COEFFICIENTE DI CORRELAZIONE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90440" y="1371600"/>
            <a:ext cx="6971040" cy="483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6E3FA-7EA0-4F7C-8568-725B46F1ED6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D9CF5-A115-4262-AADB-09836E3477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-1000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800" spc="-1" strike="noStrike">
                <a:solidFill>
                  <a:srgbClr val="e5e5ff"/>
                </a:solidFill>
                <a:latin typeface="Garamond"/>
              </a:rPr>
              <a:t>  </a:t>
            </a:r>
            <a:r>
              <a:rPr b="1" lang="it-IT" sz="2800" spc="-1" strike="noStrike">
                <a:solidFill>
                  <a:srgbClr val="e5e5ff"/>
                </a:solidFill>
                <a:latin typeface="Garamond"/>
              </a:rPr>
              <a:t>FATTORI CORRETTIVI C&amp;E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PARTENZE A FREDD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Utilizzati risultati della metodologia proposta dal gruppo COPERT-MEET in funzioni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257480" indent="-343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FRAZIONI DI VEICOLI FREDDI IN FUNZIONE DEL </a:t>
            </a:r>
            <a:r>
              <a:rPr b="1" lang="en-US" sz="2200" spc="-1" strike="noStrike">
                <a:solidFill>
                  <a:srgbClr val="ffcc00"/>
                </a:solidFill>
                <a:latin typeface="Garamond"/>
              </a:rPr>
              <a:t>TIPO DI AREA E HORA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257480" indent="-343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COLD/HOT RATIOS IN FUNCTION OF AIR TEMPERATUR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ETA DEL VEICOLO: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dipendente dal tipo di veicol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PENDENZA E LARGHEZZA DELLA STRADA: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ipendente dalla categoria veicolare e dal flusso veicolare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LIVELLO DI MANUTENZIONE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: dipendente dalla categoria veicolar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CARICO VEICOLI PESANTI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 Funzione della pendenza, della velocità media e della categoria di veicolo pesant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CARICO ELETTRICO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: luci, aria condizionata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16977-D8B6-489B-A41F-EEA428628B0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33176-0BA9-44C4-A29C-B8D4D3B583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…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..E SOLO PER LE EMISSIONI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Garamond"/>
              </a:rPr>
              <a:t>EMISSIONE EVAPORATIVE VOC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cc00"/>
                </a:solidFill>
                <a:latin typeface="Garamond"/>
              </a:rPr>
              <a:t>‘</a:t>
            </a:r>
            <a:r>
              <a:rPr b="1" lang="it-IT" sz="2200" spc="-1" strike="noStrike">
                <a:solidFill>
                  <a:srgbClr val="ffcc00"/>
                </a:solidFill>
                <a:latin typeface="Garamond"/>
              </a:rPr>
              <a:t>RUNNING’ LOSSES</a:t>
            </a: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: calcolate per tutti i tipi di flusso 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(transitante, parcheggiante, e inserente)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cc00"/>
                </a:solidFill>
                <a:latin typeface="Garamond"/>
              </a:rPr>
              <a:t>'HOT SOAK' LOSSES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: soltanto per i veicoli parcheggiati con temperatura del motore calda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cc00"/>
                </a:solidFill>
                <a:latin typeface="Garamond"/>
              </a:rPr>
              <a:t>'DIURNAL’ LOSSES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:  per i flusso simulato parcheggiante ed inserente e veicoli parcheggiat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Garamond"/>
              </a:rPr>
              <a:t>ALTEZZA RISPETTO AL LIVELLO DEL MAR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funzione della altezza, tipologia veicolare, velocità e inquinante calcola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A077E-BE46-47B9-8C19-D11A0961920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64C96-0E64-4105-BD54-406C407F75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ESPRESIONI FORNITE DAL INRETS A PARTIRE MEI MODELLI DEL TR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NUMERO DEGLI INCIDENTI IN FUNZIONE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00"/>
                </a:solidFill>
                <a:latin typeface="Garamond"/>
              </a:rPr>
              <a:t>FLUSSO VEICOLAR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00"/>
                </a:solidFill>
                <a:latin typeface="Garamond"/>
              </a:rPr>
              <a:t>FLUSSO PEDONA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00"/>
                </a:solidFill>
                <a:latin typeface="Garamond"/>
              </a:rPr>
              <a:t>LUNGHEZZA DEL LIN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L’OUTPUT del TEE non è un valore assoluto però è un valore RELATIVO di grande aiuto per la valutazione degli impatti da diversi scenari di traffico riguardanti flusso veicolare e pedonal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ODELLO INCIDEN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DBC3D-A224-48ED-98D8-C7C5408B02F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3EA7D-DDE2-4EAC-972B-78CB431135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Garamond"/>
              </a:rPr>
              <a:t>Obbiettivi TE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920" y="1628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LESSIBILITA: INTERFACCIAMENTO CON QUALSIASI TIPO DI MODELLO DI TRAFFICO E QUALSIASI MODELLO DI DISPERSIONE DEL RUMORE E INQUINANTI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CCURATEZZA NELLA STIMA E COMPLETEZZA NELLA VALUTAZIONE DEGLI IMPATTI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SS  PER LA VALUTAZIONE DI POLITICHE AMBIENTALI IN AMBITO URBAN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BF24D-B5C9-4839-AFFC-EA3ECBEC66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D933E-CED0-416A-8583-E99AFE06B0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MISSIONI DI RUMOR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LIVELLO DI RUMORE IN FUNZIONE DEL FLUSSO VEICOLARE TRANSITANTE LUNGO L’ARCO (NMPB MODE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CORRELAZIONI DALLA ‘GUIDE DE BRUIT’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in funzione di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00"/>
                </a:solidFill>
                <a:latin typeface="Garamond"/>
              </a:rPr>
              <a:t>VELOCITA MEDI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00"/>
                </a:solidFill>
                <a:latin typeface="Garamond"/>
              </a:rPr>
              <a:t>TIPO DI LINK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00"/>
                </a:solidFill>
                <a:latin typeface="Garamond"/>
              </a:rPr>
              <a:t>2 GRUPPI DI VEICOLI: </a:t>
            </a:r>
            <a:r>
              <a:rPr b="1" lang="it-IT" sz="2400" spc="-1" strike="noStrike">
                <a:solidFill>
                  <a:srgbClr val="ffcc00"/>
                </a:solidFill>
                <a:latin typeface="Garamond"/>
              </a:rPr>
              <a:t>LEGGERI E PESAN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L’OUTPUT DEL RUMORE e direttamente utilizzabile dai modelli di dispersione (e.g. Soundplan by B&amp;B (D)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FC01F-41FD-4292-B670-ABC8B30BC86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6CD6E-BC16-4A21-8CD1-718448EA85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TEE </a:t>
            </a:r>
            <a:br>
              <a:rPr sz="2800"/>
            </a:b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 IN THE ISHTAR SUITE !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323160"/>
            <a:ext cx="1371600" cy="862560"/>
          </a:xfrm>
          <a:prstGeom prst="rect">
            <a:avLst/>
          </a:prstGeom>
          <a:solidFill>
            <a:srgbClr val="e5e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514"/>
                </a:solidFill>
                <a:latin typeface="Times New Roman"/>
              </a:rPr>
              <a:t>TRAFF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514"/>
                </a:solidFill>
                <a:latin typeface="Times New Roman"/>
              </a:rPr>
              <a:t>MODU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2666880"/>
            <a:ext cx="2133720" cy="2094840"/>
          </a:xfrm>
          <a:prstGeom prst="rect">
            <a:avLst/>
          </a:prstGeom>
          <a:solidFill>
            <a:srgbClr val="e5e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514"/>
                </a:solidFill>
                <a:uFillTx/>
                <a:latin typeface="Times New Roman"/>
              </a:rPr>
              <a:t>TEE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514"/>
                </a:solidFill>
                <a:latin typeface="Times New Roman"/>
              </a:rPr>
              <a:t>CONSUMPTION &amp;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514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514"/>
                </a:solidFill>
                <a:latin typeface="Times New Roman"/>
              </a:rPr>
              <a:t>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5880" y="1557360"/>
            <a:ext cx="2438640" cy="1618560"/>
          </a:xfrm>
          <a:prstGeom prst="rect">
            <a:avLst/>
          </a:prstGeom>
          <a:solidFill>
            <a:srgbClr val="e5e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Times New Roman"/>
              </a:rPr>
              <a:t>POLLUTANTS DISPERSION AND NOISE PROPAGATION  MOD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581280"/>
            <a:ext cx="2438640" cy="1008720"/>
          </a:xfrm>
          <a:prstGeom prst="rect">
            <a:avLst/>
          </a:prstGeom>
          <a:solidFill>
            <a:srgbClr val="e5e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514"/>
                </a:solidFill>
                <a:latin typeface="Times New Roman"/>
              </a:rPr>
              <a:t>OVERALL EVALUATION (CBA, MC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4876920"/>
            <a:ext cx="2438640" cy="70380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514"/>
                </a:solidFill>
                <a:latin typeface="Times New Roman"/>
              </a:rPr>
              <a:t>EXPOSURE AND HEALTH IMP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373392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236232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3886200"/>
            <a:ext cx="1143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5680" y="5029200"/>
            <a:ext cx="152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2362320"/>
            <a:ext cx="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495680" y="4800240"/>
            <a:ext cx="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1981080"/>
            <a:ext cx="0" cy="373392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563868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198108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2057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FLOWS, SP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50292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OTHER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62720" y="1600200"/>
            <a:ext cx="0" cy="449568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1600200"/>
            <a:ext cx="838440" cy="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6095880"/>
            <a:ext cx="838440" cy="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1676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OLLUTANTS 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5181480"/>
            <a:ext cx="236232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NOISE LEVEL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CCI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4E463-312A-405C-B77E-34DCADF04FA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5FFDF-27CD-4BE1-A8D1-6BA26CAEE9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Progetto HEART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1342800" cy="85752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755640" y="1628640"/>
            <a:ext cx="7632720" cy="4537080"/>
            <a:chOff x="755640" y="1628640"/>
            <a:chExt cx="7632720" cy="4537080"/>
          </a:xfrm>
        </p:grpSpPr>
        <p:sp>
          <p:nvSpPr>
            <p:cNvPr id="238" name=""/>
            <p:cNvSpPr/>
            <p:nvPr/>
          </p:nvSpPr>
          <p:spPr>
            <a:xfrm>
              <a:off x="755640" y="1628640"/>
              <a:ext cx="7632720" cy="453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1014480" y="1811160"/>
              <a:ext cx="7086600" cy="421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15C09-08E3-45C8-8855-C875046FC9F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B6C2B-9B31-4FB6-AC25-D70AC606C339}" type="datetime1">
              <a:rPr lang="en-US"/>
              <a:t>07/31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0" y="966600"/>
            <a:ext cx="9144000" cy="51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ARCHEGGIO E INQUINAMENTO SONO STUDIATI INDIPENDENTMEN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A FASE DI PARCHEGGIO COSTITUISCE UNA FONTI DI CONGESTIONE ED INQUINAMENT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 stima che la metà dei veicoli circolanti in centro città sta cercando parcheggio (Arnott and Rose, 1999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a fase di ricerca è una grande percentuale del tempo totale di spostament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UN GRAN PERCENTUALE DI EMISSIONI AVVENGONO DURANTE LA FASE DI INSERIMENTO DI PARCHEGGIO E RICERCA DEL PARCHEGGIO: EMISSIONI PARTENZE A FREDDO, EMISSIONI EVAPORATIVE, EMISSIONI DURANTE LA FASE DI RICERCA DEL PARCHEGGIO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ON CI SONO METODOLOGIE DISPONIBILI PER VALUTARE LE CONSEGUENZE DEL PARCHEGGIO NELLE EMISSIONI DA TRAFFIC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3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ODELLI DI PARCHEGGIO: Perché?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1ABA-3F84-4723-94EB-A534BA72F90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17F22-E5F2-472E-97EF-552547FED4EA}" type="datetime1">
              <a:rPr lang="en-US"/>
              <a:t>07/31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66720" y="40464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delli di Parcheggio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75920" y="1196640"/>
            <a:ext cx="828684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aratterizzazione Statica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0000"/>
              </a:lnSpc>
              <a:spcBef>
                <a:spcPts val="751"/>
              </a:spcBef>
              <a:spcAft>
                <a:spcPts val="49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INVENTARIO PARCHEGGI (n. MAX di veicoli e macro-categorie implicate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0000"/>
              </a:lnSpc>
              <a:spcBef>
                <a:spcPts val="751"/>
              </a:spcBef>
              <a:spcAft>
                <a:spcPts val="49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DISTANZA DAL LINK AL PARCHEGGIO CONCENTRATO E DAL PARCHEGGIO AL LINK DI USCITA (OFF STREET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0000"/>
              </a:lnSpc>
              <a:spcBef>
                <a:spcPts val="751"/>
              </a:spcBef>
              <a:spcAft>
                <a:spcPts val="49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LUNGHEZZA DEL LINK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0000"/>
              </a:lnSpc>
              <a:spcBef>
                <a:spcPts val="751"/>
              </a:spcBef>
              <a:spcAft>
                <a:spcPts val="49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LINK DI USCITA E DI ENTRA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0000"/>
              </a:lnSpc>
              <a:spcBef>
                <a:spcPts val="751"/>
              </a:spcBef>
              <a:spcAft>
                <a:spcPts val="49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OORDINATE GEOREFERENZIATE DELL’AREA DI PARCHEGGI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spcAft>
                <a:spcPts val="6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aratterizzazione Dinamica delle aree di parcheggi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ROFILO DEL GRADO DI SATURAZIONE 24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FLUSSO DI ENTRATA E DI USCITA (TEE input dat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DISCRETIZZAZIONE FRA IL FLUSSO PARCHEGGIANTE CONCENTRATTO (OFF STREET) E DISTRIBUITO (ON STREET): FUNZIONE DELLE RELATIVE CAPACIT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E1C55-0A4F-40E2-B26C-AFAAC97F5D3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7C00B-C788-4668-B264-3161473C06E4}" type="datetime1">
              <a:rPr lang="en-US"/>
              <a:t>07/31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36720" y="1052640"/>
            <a:ext cx="92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Garamond"/>
              </a:rPr>
              <a:t>Analisi separata del processo di parcheggio: 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archeggianti ed inseren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Garamond"/>
              </a:rPr>
              <a:t>La versione TEE 2003 aveva una unica definizione dei cicli di parcheggio e di inserimen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TEE 2005 (EC HEARTS Project) apporta una prima modelizzazione dinamica della fase di parchegg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Che parametri bisogna rendere indipendenti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Velocità di ricerca (in funzione della densità e OCRate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Tempo di Ricerca  (funzione della densità, OCRate, ….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Tempo di Warm Up  (funzione della temperatura dell’aria e della cinematica della fase di inserimento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L PARCHEGGIO NEL TE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3DD92-A0BC-4637-B025-6DE5027DF25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E2C23-964F-476B-B779-72840C4CE6E9}" type="datetime1">
              <a:rPr lang="en-US"/>
              <a:t>07/31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LUSSI PARCHEGGIANTI ED INSERENT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780000" y="1844280"/>
            <a:ext cx="536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Garamond"/>
              </a:rPr>
              <a:t>PARAMETRI CICLO DI PARCHEGGIO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5e5ff"/>
                </a:solidFill>
                <a:latin typeface="Garamond"/>
              </a:rPr>
              <a:t>TEMPO/VELOCITA DI RICERCA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GB" sz="2000" spc="-1" strike="noStrike">
                <a:solidFill>
                  <a:srgbClr val="e5e5ff"/>
                </a:solidFill>
                <a:latin typeface="Garamond"/>
              </a:rPr>
              <a:t>funzione dell’OCRa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Garamond"/>
              </a:rPr>
              <a:t>PARAMETRI CICLO DI INSERIMENTO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5e5ff"/>
                </a:solidFill>
                <a:latin typeface="Garamond"/>
              </a:rPr>
              <a:t>TEMPO DI WARM UP 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GB" sz="2000" spc="-1" strike="noStrike">
                <a:solidFill>
                  <a:srgbClr val="e5e5ff"/>
                </a:solidFill>
                <a:latin typeface="Garamond"/>
              </a:rPr>
              <a:t>in funzione della temperatura ambiente</a:t>
            </a:r>
            <a:r>
              <a:rPr b="1" lang="en-GB" sz="2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5e5ff"/>
                </a:solidFill>
                <a:latin typeface="Garamond"/>
              </a:rPr>
              <a:t>Accelerazione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it-IT" sz="2000" spc="-1" strike="noStrike">
                <a:solidFill>
                  <a:srgbClr val="e5e5ff"/>
                </a:solidFill>
                <a:latin typeface="Garamond"/>
              </a:rPr>
              <a:t>funzione della velocità med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3200" y="1844640"/>
            <a:ext cx="3035160" cy="1533600"/>
            <a:chOff x="673200" y="1844640"/>
            <a:chExt cx="3035160" cy="1533600"/>
          </a:xfrm>
        </p:grpSpPr>
        <p:sp>
          <p:nvSpPr>
            <p:cNvPr id="249" name=""/>
            <p:cNvSpPr/>
            <p:nvPr/>
          </p:nvSpPr>
          <p:spPr>
            <a:xfrm>
              <a:off x="673200" y="1876320"/>
              <a:ext cx="3035160" cy="15019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9880" y="2403360"/>
              <a:ext cx="610920" cy="1800"/>
            </a:xfrm>
            <a:prstGeom prst="line">
              <a:avLst/>
            </a:prstGeom>
            <a:ln w="1908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50800" y="2403360"/>
              <a:ext cx="640080" cy="586080"/>
            </a:xfrm>
            <a:prstGeom prst="line">
              <a:avLst/>
            </a:prstGeom>
            <a:ln w="1908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90880" y="2989440"/>
              <a:ext cx="931680" cy="1440"/>
            </a:xfrm>
            <a:prstGeom prst="line">
              <a:avLst/>
            </a:prstGeom>
            <a:ln w="1908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22560" y="2989440"/>
              <a:ext cx="79560" cy="320400"/>
            </a:xfrm>
            <a:prstGeom prst="line">
              <a:avLst/>
            </a:prstGeom>
            <a:ln w="1908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93920" y="1897200"/>
              <a:ext cx="135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arking Cyc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0160" y="1844640"/>
              <a:ext cx="71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Speed (km/h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839880" y="2112480"/>
              <a:ext cx="0" cy="1225800"/>
            </a:xfrm>
            <a:prstGeom prst="line">
              <a:avLst/>
            </a:prstGeom>
            <a:ln w="19080">
              <a:solidFill>
                <a:srgbClr val="000514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98800" y="2631960"/>
              <a:ext cx="100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9880" y="3330720"/>
              <a:ext cx="2741400" cy="1440"/>
            </a:xfrm>
            <a:prstGeom prst="line">
              <a:avLst/>
            </a:prstGeom>
            <a:ln w="19080">
              <a:solidFill>
                <a:srgbClr val="000514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27240" y="3068640"/>
              <a:ext cx="68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73200" y="3500280"/>
            <a:ext cx="3019320" cy="165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893880" y="4870080"/>
            <a:ext cx="52200" cy="235080"/>
          </a:xfrm>
          <a:prstGeom prst="line">
            <a:avLst/>
          </a:prstGeom>
          <a:ln w="1908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46080" y="4870440"/>
            <a:ext cx="871560" cy="1440"/>
          </a:xfrm>
          <a:prstGeom prst="line">
            <a:avLst/>
          </a:prstGeom>
          <a:ln w="1908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817640" y="4259160"/>
            <a:ext cx="841320" cy="611280"/>
          </a:xfrm>
          <a:prstGeom prst="line">
            <a:avLst/>
          </a:prstGeom>
          <a:ln w="1908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58960" y="4259160"/>
            <a:ext cx="979560" cy="1800"/>
          </a:xfrm>
          <a:prstGeom prst="line">
            <a:avLst/>
          </a:prstGeom>
          <a:ln w="1908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27080" y="4508640"/>
            <a:ext cx="7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98920" y="3933720"/>
            <a:ext cx="8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r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350028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serting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635280" y="3767040"/>
            <a:ext cx="0" cy="1338480"/>
          </a:xfrm>
          <a:prstGeom prst="line">
            <a:avLst/>
          </a:prstGeom>
          <a:ln w="19080">
            <a:solidFill>
              <a:srgbClr val="00051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44680" y="4351320"/>
            <a:ext cx="1239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Acceleration to cruise spe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83640" y="35942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peed (km/h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3200" y="5105520"/>
            <a:ext cx="2962080" cy="1440"/>
          </a:xfrm>
          <a:prstGeom prst="line">
            <a:avLst/>
          </a:prstGeom>
          <a:ln w="19080">
            <a:solidFill>
              <a:srgbClr val="00051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89160" y="4853160"/>
            <a:ext cx="60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4360" y="530064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icli semplificati di ricerca e inserimento dal parchegg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1A99-CF77-45C4-9DDE-EC38B46E135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6BC44-FD06-4093-BE7E-733C5D64CD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656400" y="2421000"/>
            <a:ext cx="1482840" cy="1324080"/>
          </a:xfrm>
          <a:custGeom>
            <a:avLst/>
            <a:gdLst/>
            <a:ahLst/>
            <a:rect l="l" t="t" r="r" b="b"/>
            <a:pathLst>
              <a:path w="1409" h="728">
                <a:moveTo>
                  <a:pt x="705" y="0"/>
                </a:moveTo>
                <a:lnTo>
                  <a:pt x="0" y="364"/>
                </a:lnTo>
                <a:lnTo>
                  <a:pt x="705" y="728"/>
                </a:lnTo>
                <a:lnTo>
                  <a:pt x="1409" y="364"/>
                </a:lnTo>
                <a:lnTo>
                  <a:pt x="705" y="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6200000">
            <a:off x="7421400" y="2890080"/>
            <a:ext cx="622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399440" y="2467080"/>
            <a:ext cx="1440" cy="1234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6260000">
            <a:off x="6791400" y="2898000"/>
            <a:ext cx="67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Wa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7038720" y="2899800"/>
            <a:ext cx="95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99440" y="2467080"/>
            <a:ext cx="1440" cy="1249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22880" y="2603520"/>
            <a:ext cx="1401480" cy="958680"/>
          </a:xfrm>
          <a:prstGeom prst="rect">
            <a:avLst/>
          </a:prstGeom>
          <a:solidFill>
            <a:srgbClr val="ffff66"/>
          </a:solidFill>
          <a:ln w="792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Controllo dello spazio 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1" name=""/>
          <p:cNvCxnSpPr>
            <a:endCxn id="280" idx="1"/>
          </p:cNvCxnSpPr>
          <p:nvPr/>
        </p:nvCxnSpPr>
        <p:spPr>
          <a:xfrm>
            <a:off x="3448080" y="3079440"/>
            <a:ext cx="875520" cy="39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82" name=""/>
          <p:cNvGrpSpPr/>
          <p:nvPr/>
        </p:nvGrpSpPr>
        <p:grpSpPr>
          <a:xfrm>
            <a:off x="2770920" y="3601800"/>
            <a:ext cx="1554480" cy="2543760"/>
            <a:chOff x="2770920" y="3601800"/>
            <a:chExt cx="1554480" cy="2543760"/>
          </a:xfrm>
        </p:grpSpPr>
        <p:sp>
          <p:nvSpPr>
            <p:cNvPr id="283" name=""/>
            <p:cNvSpPr/>
            <p:nvPr/>
          </p:nvSpPr>
          <p:spPr>
            <a:xfrm>
              <a:off x="3065400" y="5840280"/>
              <a:ext cx="905040" cy="305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Garamond"/>
                </a:rPr>
                <a:t>i+1&lt; 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84" name=""/>
            <p:cNvCxnSpPr/>
            <p:nvPr/>
          </p:nvCxnSpPr>
          <p:spPr>
            <a:xfrm rot="10800000">
              <a:off x="2770920" y="3601440"/>
              <a:ext cx="1554840" cy="22039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85" name=""/>
          <p:cNvSpPr/>
          <p:nvPr/>
        </p:nvSpPr>
        <p:spPr>
          <a:xfrm>
            <a:off x="6200640" y="5840280"/>
            <a:ext cx="905040" cy="305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i+1&gt;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</p:cNvCxnSpPr>
          <p:nvPr/>
        </p:nvCxnSpPr>
        <p:spPr>
          <a:xfrm flipV="1">
            <a:off x="5796000" y="3747600"/>
            <a:ext cx="1635840" cy="195840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4" idx="0"/>
            <a:endCxn id="280" idx="3"/>
          </p:cNvCxnSpPr>
          <p:nvPr/>
        </p:nvCxnSpPr>
        <p:spPr>
          <a:xfrm flipH="1">
            <a:off x="5723640" y="3082680"/>
            <a:ext cx="9183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74" idx="1"/>
          </p:cNvCxnSpPr>
          <p:nvPr/>
        </p:nvCxnSpPr>
        <p:spPr>
          <a:xfrm flipH="1" flipV="1">
            <a:off x="3465000" y="1572840"/>
            <a:ext cx="4688640" cy="1510560"/>
          </a:xfrm>
          <a:prstGeom prst="bentConnector3">
            <a:avLst>
              <a:gd name="adj1" fmla="val -4568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2050920" y="2658960"/>
            <a:ext cx="1405080" cy="1829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Scelta della tipologia di parchegg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30240" y="1989000"/>
            <a:ext cx="26575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Ricerca del parcheggio a velocità V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2" name=""/>
          <p:cNvCxnSpPr>
            <a:stCxn id="293" idx="2"/>
          </p:cNvCxnSpPr>
          <p:nvPr/>
        </p:nvCxnSpPr>
        <p:spPr>
          <a:xfrm>
            <a:off x="2736360" y="1773000"/>
            <a:ext cx="27720" cy="8643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odello di Ricerca Parcheggio On-Stree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"/>
          <p:cNvSpPr/>
          <p:nvPr/>
        </p:nvSpPr>
        <p:spPr>
          <a:xfrm>
            <a:off x="1979640" y="1125360"/>
            <a:ext cx="1512720" cy="6480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Ricer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80" idx="2"/>
            <a:endCxn id="296" idx="1"/>
          </p:cNvCxnSpPr>
          <p:nvPr/>
        </p:nvCxnSpPr>
        <p:spPr>
          <a:xfrm>
            <a:off x="5024160" y="3561840"/>
            <a:ext cx="3960" cy="306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97" name=""/>
          <p:cNvGrpSpPr/>
          <p:nvPr/>
        </p:nvGrpSpPr>
        <p:grpSpPr>
          <a:xfrm>
            <a:off x="4460400" y="3887640"/>
            <a:ext cx="1174320" cy="787680"/>
            <a:chOff x="4460400" y="3887640"/>
            <a:chExt cx="1174320" cy="787680"/>
          </a:xfrm>
        </p:grpSpPr>
        <p:sp>
          <p:nvSpPr>
            <p:cNvPr id="296" name=""/>
            <p:cNvSpPr/>
            <p:nvPr/>
          </p:nvSpPr>
          <p:spPr>
            <a:xfrm>
              <a:off x="4475160" y="3887640"/>
              <a:ext cx="1106640" cy="787680"/>
            </a:xfrm>
            <a:custGeom>
              <a:avLst/>
              <a:gdLst/>
              <a:ahLst/>
              <a:rect l="l" t="t" r="r" b="b"/>
              <a:pathLst>
                <a:path w="829" h="339">
                  <a:moveTo>
                    <a:pt x="414" y="0"/>
                  </a:moveTo>
                  <a:lnTo>
                    <a:pt x="0" y="170"/>
                  </a:lnTo>
                  <a:lnTo>
                    <a:pt x="414" y="339"/>
                  </a:lnTo>
                  <a:lnTo>
                    <a:pt x="829" y="170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ffff66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60400" y="4091040"/>
              <a:ext cx="117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Garamond"/>
                </a:rPr>
                <a:t>Libero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238560" y="3860640"/>
            <a:ext cx="1441440" cy="642600"/>
            <a:chOff x="3238560" y="3860640"/>
            <a:chExt cx="1441440" cy="642600"/>
          </a:xfrm>
        </p:grpSpPr>
        <p:sp>
          <p:nvSpPr>
            <p:cNvPr id="300" name=""/>
            <p:cNvSpPr/>
            <p:nvPr/>
          </p:nvSpPr>
          <p:spPr>
            <a:xfrm>
              <a:off x="3238560" y="4149720"/>
              <a:ext cx="712800" cy="305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Garamond"/>
                </a:rPr>
                <a:t>Par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01" name=""/>
            <p:cNvCxnSpPr>
              <a:stCxn id="296" idx="0"/>
              <a:endCxn id="300" idx="3"/>
            </p:cNvCxnSpPr>
            <p:nvPr/>
          </p:nvCxnSpPr>
          <p:spPr>
            <a:xfrm flipH="1">
              <a:off x="3951000" y="4282560"/>
              <a:ext cx="560880" cy="248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02" name=""/>
            <p:cNvSpPr/>
            <p:nvPr/>
          </p:nvSpPr>
          <p:spPr>
            <a:xfrm>
              <a:off x="4067280" y="3860640"/>
              <a:ext cx="6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Garamond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290840" y="5160960"/>
            <a:ext cx="1495440" cy="1087560"/>
          </a:xfrm>
          <a:prstGeom prst="rect">
            <a:avLst/>
          </a:prstGeom>
          <a:solidFill>
            <a:srgbClr val="ffff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356000" y="5300640"/>
            <a:ext cx="136836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Controllo posto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14640" y="5950080"/>
            <a:ext cx="374040" cy="305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i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296" idx="2"/>
          </p:cNvCxnSpPr>
          <p:nvPr/>
        </p:nvCxnSpPr>
        <p:spPr>
          <a:xfrm flipH="1">
            <a:off x="5022360" y="4694040"/>
            <a:ext cx="5760" cy="4719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4374720" y="468144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Garamond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9EEE5-99DE-4FC2-974F-2BAE290F325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A840F-0562-4B08-8607-BD1AEE23513C}" type="datetime1">
              <a:rPr lang="en-US"/>
              <a:t>07/31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Comic Sans MS"/>
              </a:rPr>
              <a:t>Searching Speed Model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8960" y="155736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elta delle variabili: densità lineare dell’arco e ‘occupation rate’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elta della metodolog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"/>
          <p:cNvSpPr/>
          <p:nvPr/>
        </p:nvSpPr>
        <p:spPr>
          <a:xfrm>
            <a:off x="4191120" y="3456000"/>
            <a:ext cx="761760" cy="2089080"/>
          </a:xfrm>
          <a:prstGeom prst="downArrow">
            <a:avLst>
              <a:gd name="adj1" fmla="val 50000"/>
              <a:gd name="adj2" fmla="val 6856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61944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l comportamento dell’utente può essere simulato tramite una matrice di regole IF-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973840" y="263196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91920" y="5513400"/>
            <a:ext cx="23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Fuzzy Log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88A26-F702-4BF2-BA08-64A1240FF88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5E16A-9E4A-4C7E-A6A4-343700D006BD}" type="datetime1">
              <a:rPr lang="en-US"/>
              <a:t>07/31/26</a:t>
            </a:fld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9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8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9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5e5ff"/>
                </a:solidFill>
                <a:latin typeface="Comic Sans MS"/>
                <a:ea typeface="Times New Roman"/>
              </a:rPr>
              <a:t>Velocità di Flusso &amp; Velocità Media del Link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"/>
          <p:cNvSpPr/>
          <p:nvPr/>
        </p:nvSpPr>
        <p:spPr>
          <a:xfrm>
            <a:off x="5925960" y="4765680"/>
            <a:ext cx="35280" cy="4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925960" y="4394160"/>
            <a:ext cx="35280" cy="4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74960" y="1576440"/>
            <a:ext cx="62640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974960" y="1576440"/>
            <a:ext cx="62640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74960" y="1576440"/>
            <a:ext cx="6499080" cy="4006800"/>
          </a:xfrm>
          <a:prstGeom prst="rect">
            <a:avLst/>
          </a:prstGeom>
          <a:solidFill>
            <a:srgbClr val="0099cc"/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74960" y="1576440"/>
            <a:ext cx="1440" cy="4006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43280" y="5583240"/>
            <a:ext cx="31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43280" y="5024520"/>
            <a:ext cx="31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43280" y="4433760"/>
            <a:ext cx="31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43280" y="3875040"/>
            <a:ext cx="31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43280" y="3284640"/>
            <a:ext cx="31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43280" y="2727360"/>
            <a:ext cx="31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943280" y="2136600"/>
            <a:ext cx="31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943280" y="1576440"/>
            <a:ext cx="3168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74960" y="5583240"/>
            <a:ext cx="6264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1974960" y="5583240"/>
            <a:ext cx="1440" cy="30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032280" y="5583240"/>
            <a:ext cx="1440" cy="30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062240" y="5583240"/>
            <a:ext cx="1800" cy="30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121360" y="5583240"/>
            <a:ext cx="1440" cy="30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149880" y="5583240"/>
            <a:ext cx="1800" cy="30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7209000" y="5583240"/>
            <a:ext cx="1440" cy="30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8238960" y="5583240"/>
            <a:ext cx="1800" cy="30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48040" y="4619520"/>
            <a:ext cx="164880" cy="187560"/>
          </a:xfrm>
          <a:custGeom>
            <a:avLst/>
            <a:gdLst/>
            <a:ahLst/>
            <a:rect l="l" t="t" r="r" b="b"/>
            <a:pathLst>
              <a:path w="84" h="85">
                <a:moveTo>
                  <a:pt x="42" y="0"/>
                </a:moveTo>
                <a:lnTo>
                  <a:pt x="84" y="42"/>
                </a:lnTo>
                <a:lnTo>
                  <a:pt x="42" y="85"/>
                </a:lnTo>
                <a:lnTo>
                  <a:pt x="0" y="42"/>
                </a:lnTo>
                <a:lnTo>
                  <a:pt x="42" y="0"/>
                </a:lnTo>
                <a:close/>
              </a:path>
            </a:pathLst>
          </a:custGeom>
          <a:solidFill>
            <a:srgbClr val="ffff00"/>
          </a:solidFill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49520" y="4494240"/>
            <a:ext cx="165240" cy="185760"/>
          </a:xfrm>
          <a:custGeom>
            <a:avLst/>
            <a:gdLst/>
            <a:ahLst/>
            <a:rect l="l" t="t" r="r" b="b"/>
            <a:pathLst>
              <a:path w="84" h="84">
                <a:moveTo>
                  <a:pt x="42" y="0"/>
                </a:moveTo>
                <a:lnTo>
                  <a:pt x="84" y="42"/>
                </a:lnTo>
                <a:lnTo>
                  <a:pt x="42" y="84"/>
                </a:lnTo>
                <a:lnTo>
                  <a:pt x="0" y="42"/>
                </a:lnTo>
                <a:lnTo>
                  <a:pt x="42" y="0"/>
                </a:lnTo>
                <a:close/>
              </a:path>
            </a:pathLst>
          </a:custGeom>
          <a:solidFill>
            <a:srgbClr val="ffff00"/>
          </a:solidFill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78360" y="3689280"/>
            <a:ext cx="168120" cy="185760"/>
          </a:xfrm>
          <a:custGeom>
            <a:avLst/>
            <a:gdLst/>
            <a:ahLst/>
            <a:rect l="l" t="t" r="r" b="b"/>
            <a:pathLst>
              <a:path w="84" h="84">
                <a:moveTo>
                  <a:pt x="42" y="0"/>
                </a:moveTo>
                <a:lnTo>
                  <a:pt x="84" y="42"/>
                </a:lnTo>
                <a:lnTo>
                  <a:pt x="42" y="84"/>
                </a:lnTo>
                <a:lnTo>
                  <a:pt x="0" y="42"/>
                </a:lnTo>
                <a:lnTo>
                  <a:pt x="42" y="0"/>
                </a:lnTo>
                <a:close/>
              </a:path>
            </a:pathLst>
          </a:custGeom>
          <a:solidFill>
            <a:srgbClr val="ffff00"/>
          </a:solidFill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08640" y="2662200"/>
            <a:ext cx="166680" cy="189000"/>
          </a:xfrm>
          <a:custGeom>
            <a:avLst/>
            <a:gdLst/>
            <a:ahLst/>
            <a:rect l="l" t="t" r="r" b="b"/>
            <a:pathLst>
              <a:path w="84" h="85">
                <a:moveTo>
                  <a:pt x="42" y="0"/>
                </a:moveTo>
                <a:lnTo>
                  <a:pt x="84" y="43"/>
                </a:lnTo>
                <a:lnTo>
                  <a:pt x="42" y="85"/>
                </a:lnTo>
                <a:lnTo>
                  <a:pt x="0" y="43"/>
                </a:lnTo>
                <a:lnTo>
                  <a:pt x="42" y="0"/>
                </a:lnTo>
                <a:close/>
              </a:path>
            </a:pathLst>
          </a:custGeom>
          <a:solidFill>
            <a:srgbClr val="ffff00"/>
          </a:solidFill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38560" y="2538360"/>
            <a:ext cx="166680" cy="189000"/>
          </a:xfrm>
          <a:custGeom>
            <a:avLst/>
            <a:gdLst/>
            <a:ahLst/>
            <a:rect l="l" t="t" r="r" b="b"/>
            <a:pathLst>
              <a:path w="84" h="85">
                <a:moveTo>
                  <a:pt x="42" y="0"/>
                </a:moveTo>
                <a:lnTo>
                  <a:pt x="84" y="42"/>
                </a:lnTo>
                <a:lnTo>
                  <a:pt x="42" y="85"/>
                </a:lnTo>
                <a:lnTo>
                  <a:pt x="0" y="42"/>
                </a:lnTo>
                <a:lnTo>
                  <a:pt x="42" y="0"/>
                </a:lnTo>
                <a:close/>
              </a:path>
            </a:pathLst>
          </a:custGeom>
          <a:solidFill>
            <a:srgbClr val="ffff00"/>
          </a:solidFill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537160" y="2260440"/>
            <a:ext cx="169920" cy="185760"/>
          </a:xfrm>
          <a:custGeom>
            <a:avLst/>
            <a:gdLst/>
            <a:ahLst/>
            <a:rect l="l" t="t" r="r" b="b"/>
            <a:pathLst>
              <a:path w="85" h="84">
                <a:moveTo>
                  <a:pt x="42" y="0"/>
                </a:moveTo>
                <a:lnTo>
                  <a:pt x="85" y="42"/>
                </a:lnTo>
                <a:lnTo>
                  <a:pt x="42" y="84"/>
                </a:lnTo>
                <a:lnTo>
                  <a:pt x="0" y="42"/>
                </a:lnTo>
                <a:lnTo>
                  <a:pt x="42" y="0"/>
                </a:lnTo>
                <a:close/>
              </a:path>
            </a:pathLst>
          </a:custGeom>
          <a:solidFill>
            <a:srgbClr val="ffff00"/>
          </a:solidFill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66000" y="2043000"/>
            <a:ext cx="168120" cy="185760"/>
          </a:xfrm>
          <a:custGeom>
            <a:avLst/>
            <a:gdLst/>
            <a:ahLst/>
            <a:rect l="l" t="t" r="r" b="b"/>
            <a:pathLst>
              <a:path w="84" h="84">
                <a:moveTo>
                  <a:pt x="42" y="0"/>
                </a:moveTo>
                <a:lnTo>
                  <a:pt x="84" y="42"/>
                </a:lnTo>
                <a:lnTo>
                  <a:pt x="42" y="84"/>
                </a:lnTo>
                <a:lnTo>
                  <a:pt x="0" y="42"/>
                </a:lnTo>
                <a:lnTo>
                  <a:pt x="42" y="0"/>
                </a:lnTo>
                <a:close/>
              </a:path>
            </a:pathLst>
          </a:custGeom>
          <a:solidFill>
            <a:srgbClr val="ffff00"/>
          </a:solidFill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597720" y="2043000"/>
            <a:ext cx="164880" cy="185760"/>
          </a:xfrm>
          <a:custGeom>
            <a:avLst/>
            <a:gdLst/>
            <a:ahLst/>
            <a:rect l="l" t="t" r="r" b="b"/>
            <a:pathLst>
              <a:path w="84" h="84">
                <a:moveTo>
                  <a:pt x="42" y="0"/>
                </a:moveTo>
                <a:lnTo>
                  <a:pt x="84" y="42"/>
                </a:lnTo>
                <a:lnTo>
                  <a:pt x="42" y="84"/>
                </a:lnTo>
                <a:lnTo>
                  <a:pt x="0" y="42"/>
                </a:lnTo>
                <a:lnTo>
                  <a:pt x="42" y="0"/>
                </a:lnTo>
                <a:close/>
              </a:path>
            </a:pathLst>
          </a:custGeom>
          <a:solidFill>
            <a:srgbClr val="ffff00"/>
          </a:solidFill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126200" y="2043000"/>
            <a:ext cx="166680" cy="185760"/>
          </a:xfrm>
          <a:custGeom>
            <a:avLst/>
            <a:gdLst/>
            <a:ahLst/>
            <a:rect l="l" t="t" r="r" b="b"/>
            <a:pathLst>
              <a:path w="84" h="84">
                <a:moveTo>
                  <a:pt x="42" y="0"/>
                </a:moveTo>
                <a:lnTo>
                  <a:pt x="84" y="42"/>
                </a:lnTo>
                <a:lnTo>
                  <a:pt x="42" y="84"/>
                </a:lnTo>
                <a:lnTo>
                  <a:pt x="0" y="42"/>
                </a:lnTo>
                <a:lnTo>
                  <a:pt x="42" y="0"/>
                </a:lnTo>
                <a:close/>
              </a:path>
            </a:pathLst>
          </a:custGeom>
          <a:solidFill>
            <a:srgbClr val="ffff00"/>
          </a:solidFill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48040" y="4680000"/>
            <a:ext cx="138240" cy="158760"/>
          </a:xfrm>
          <a:prstGeom prst="rect">
            <a:avLst/>
          </a:prstGeom>
          <a:solidFill>
            <a:srgbClr val="ff0000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49520" y="4216320"/>
            <a:ext cx="138240" cy="154080"/>
          </a:xfrm>
          <a:prstGeom prst="rect">
            <a:avLst/>
          </a:prstGeom>
          <a:solidFill>
            <a:srgbClr val="ff0000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78360" y="4154400"/>
            <a:ext cx="139680" cy="154080"/>
          </a:xfrm>
          <a:prstGeom prst="rect">
            <a:avLst/>
          </a:prstGeom>
          <a:solidFill>
            <a:srgbClr val="ff0000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508640" y="4029120"/>
            <a:ext cx="137880" cy="155520"/>
          </a:xfrm>
          <a:prstGeom prst="rect">
            <a:avLst/>
          </a:prstGeom>
          <a:solidFill>
            <a:srgbClr val="ff0000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38560" y="3313080"/>
            <a:ext cx="138240" cy="158760"/>
          </a:xfrm>
          <a:prstGeom prst="rect">
            <a:avLst/>
          </a:prstGeom>
          <a:solidFill>
            <a:srgbClr val="ff0000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37160" y="2476440"/>
            <a:ext cx="139680" cy="155520"/>
          </a:xfrm>
          <a:prstGeom prst="rect">
            <a:avLst/>
          </a:prstGeom>
          <a:solidFill>
            <a:srgbClr val="ff0000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66000" y="2043000"/>
            <a:ext cx="141120" cy="154080"/>
          </a:xfrm>
          <a:prstGeom prst="rect">
            <a:avLst/>
          </a:prstGeom>
          <a:solidFill>
            <a:srgbClr val="ff0000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597720" y="2043000"/>
            <a:ext cx="137880" cy="154080"/>
          </a:xfrm>
          <a:prstGeom prst="rect">
            <a:avLst/>
          </a:prstGeom>
          <a:solidFill>
            <a:srgbClr val="ff0000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126200" y="2043000"/>
            <a:ext cx="138240" cy="154080"/>
          </a:xfrm>
          <a:prstGeom prst="rect">
            <a:avLst/>
          </a:prstGeom>
          <a:solidFill>
            <a:srgbClr val="ff0000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48040" y="4960800"/>
            <a:ext cx="164880" cy="185760"/>
          </a:xfrm>
          <a:custGeom>
            <a:avLst/>
            <a:gdLst/>
            <a:ahLst/>
            <a:rect l="l" t="t" r="r" b="b"/>
            <a:pathLst>
              <a:path w="84" h="84">
                <a:moveTo>
                  <a:pt x="42" y="0"/>
                </a:moveTo>
                <a:lnTo>
                  <a:pt x="84" y="84"/>
                </a:lnTo>
                <a:lnTo>
                  <a:pt x="0" y="84"/>
                </a:lnTo>
                <a:lnTo>
                  <a:pt x="42" y="0"/>
                </a:lnTo>
                <a:close/>
              </a:path>
            </a:pathLst>
          </a:custGeom>
          <a:solidFill>
            <a:srgbClr val="00ff00"/>
          </a:solidFill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449520" y="4340160"/>
            <a:ext cx="165240" cy="185760"/>
          </a:xfrm>
          <a:custGeom>
            <a:avLst/>
            <a:gdLst/>
            <a:ahLst/>
            <a:rect l="l" t="t" r="r" b="b"/>
            <a:pathLst>
              <a:path w="84" h="84">
                <a:moveTo>
                  <a:pt x="42" y="0"/>
                </a:moveTo>
                <a:lnTo>
                  <a:pt x="84" y="84"/>
                </a:lnTo>
                <a:lnTo>
                  <a:pt x="0" y="84"/>
                </a:lnTo>
                <a:lnTo>
                  <a:pt x="42" y="0"/>
                </a:lnTo>
                <a:close/>
              </a:path>
            </a:pathLst>
          </a:custGeom>
          <a:solidFill>
            <a:srgbClr val="00ff00"/>
          </a:solidFill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78360" y="4060800"/>
            <a:ext cx="168120" cy="187200"/>
          </a:xfrm>
          <a:custGeom>
            <a:avLst/>
            <a:gdLst/>
            <a:ahLst/>
            <a:rect l="l" t="t" r="r" b="b"/>
            <a:pathLst>
              <a:path w="84" h="85">
                <a:moveTo>
                  <a:pt x="42" y="0"/>
                </a:moveTo>
                <a:lnTo>
                  <a:pt x="84" y="85"/>
                </a:lnTo>
                <a:lnTo>
                  <a:pt x="0" y="85"/>
                </a:lnTo>
                <a:lnTo>
                  <a:pt x="42" y="0"/>
                </a:lnTo>
                <a:close/>
              </a:path>
            </a:pathLst>
          </a:custGeom>
          <a:solidFill>
            <a:srgbClr val="00ff00"/>
          </a:solidFill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08640" y="4308480"/>
            <a:ext cx="166680" cy="185760"/>
          </a:xfrm>
          <a:custGeom>
            <a:avLst/>
            <a:gdLst/>
            <a:ahLst/>
            <a:rect l="l" t="t" r="r" b="b"/>
            <a:pathLst>
              <a:path w="84" h="84">
                <a:moveTo>
                  <a:pt x="42" y="0"/>
                </a:moveTo>
                <a:lnTo>
                  <a:pt x="84" y="84"/>
                </a:lnTo>
                <a:lnTo>
                  <a:pt x="0" y="84"/>
                </a:lnTo>
                <a:lnTo>
                  <a:pt x="42" y="0"/>
                </a:lnTo>
                <a:close/>
              </a:path>
            </a:pathLst>
          </a:custGeom>
          <a:solidFill>
            <a:srgbClr val="00ff00"/>
          </a:solidFill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038560" y="3811680"/>
            <a:ext cx="166680" cy="185760"/>
          </a:xfrm>
          <a:custGeom>
            <a:avLst/>
            <a:gdLst/>
            <a:ahLst/>
            <a:rect l="l" t="t" r="r" b="b"/>
            <a:pathLst>
              <a:path w="84" h="84">
                <a:moveTo>
                  <a:pt x="42" y="0"/>
                </a:moveTo>
                <a:lnTo>
                  <a:pt x="84" y="84"/>
                </a:lnTo>
                <a:lnTo>
                  <a:pt x="0" y="84"/>
                </a:lnTo>
                <a:lnTo>
                  <a:pt x="42" y="0"/>
                </a:lnTo>
                <a:close/>
              </a:path>
            </a:pathLst>
          </a:custGeom>
          <a:solidFill>
            <a:srgbClr val="00ff00"/>
          </a:solidFill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537160" y="3471840"/>
            <a:ext cx="169920" cy="185760"/>
          </a:xfrm>
          <a:custGeom>
            <a:avLst/>
            <a:gdLst/>
            <a:ahLst/>
            <a:rect l="l" t="t" r="r" b="b"/>
            <a:pathLst>
              <a:path w="85" h="84">
                <a:moveTo>
                  <a:pt x="42" y="0"/>
                </a:moveTo>
                <a:lnTo>
                  <a:pt x="85" y="84"/>
                </a:lnTo>
                <a:lnTo>
                  <a:pt x="0" y="84"/>
                </a:lnTo>
                <a:lnTo>
                  <a:pt x="42" y="0"/>
                </a:lnTo>
                <a:close/>
              </a:path>
            </a:pathLst>
          </a:custGeom>
          <a:solidFill>
            <a:srgbClr val="00ff00"/>
          </a:solidFill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66000" y="3191040"/>
            <a:ext cx="168120" cy="185400"/>
          </a:xfrm>
          <a:custGeom>
            <a:avLst/>
            <a:gdLst/>
            <a:ahLst/>
            <a:rect l="l" t="t" r="r" b="b"/>
            <a:pathLst>
              <a:path w="84" h="84">
                <a:moveTo>
                  <a:pt x="42" y="0"/>
                </a:moveTo>
                <a:lnTo>
                  <a:pt x="84" y="84"/>
                </a:lnTo>
                <a:lnTo>
                  <a:pt x="0" y="84"/>
                </a:lnTo>
                <a:lnTo>
                  <a:pt x="42" y="0"/>
                </a:lnTo>
                <a:close/>
              </a:path>
            </a:pathLst>
          </a:custGeom>
          <a:solidFill>
            <a:srgbClr val="00ff00"/>
          </a:solidFill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97720" y="2913120"/>
            <a:ext cx="164880" cy="185760"/>
          </a:xfrm>
          <a:custGeom>
            <a:avLst/>
            <a:gdLst/>
            <a:ahLst/>
            <a:rect l="l" t="t" r="r" b="b"/>
            <a:pathLst>
              <a:path w="84" h="84">
                <a:moveTo>
                  <a:pt x="42" y="0"/>
                </a:moveTo>
                <a:lnTo>
                  <a:pt x="84" y="84"/>
                </a:lnTo>
                <a:lnTo>
                  <a:pt x="0" y="84"/>
                </a:lnTo>
                <a:lnTo>
                  <a:pt x="42" y="0"/>
                </a:lnTo>
                <a:close/>
              </a:path>
            </a:pathLst>
          </a:custGeom>
          <a:solidFill>
            <a:srgbClr val="00ff00"/>
          </a:solidFill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126200" y="2693880"/>
            <a:ext cx="166680" cy="187560"/>
          </a:xfrm>
          <a:custGeom>
            <a:avLst/>
            <a:gdLst/>
            <a:ahLst/>
            <a:rect l="l" t="t" r="r" b="b"/>
            <a:pathLst>
              <a:path w="84" h="85">
                <a:moveTo>
                  <a:pt x="42" y="0"/>
                </a:moveTo>
                <a:lnTo>
                  <a:pt x="84" y="85"/>
                </a:lnTo>
                <a:lnTo>
                  <a:pt x="0" y="85"/>
                </a:lnTo>
                <a:lnTo>
                  <a:pt x="42" y="0"/>
                </a:lnTo>
                <a:close/>
              </a:path>
            </a:pathLst>
          </a:custGeom>
          <a:solidFill>
            <a:srgbClr val="00ff00"/>
          </a:solidFill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032280" y="4154400"/>
            <a:ext cx="471240" cy="744480"/>
          </a:xfrm>
          <a:custGeom>
            <a:avLst/>
            <a:gdLst/>
            <a:ahLst/>
            <a:rect l="l" t="t" r="r" b="b"/>
            <a:pathLst>
              <a:path w="17" h="24">
                <a:moveTo>
                  <a:pt x="0" y="24"/>
                </a:moveTo>
                <a:lnTo>
                  <a:pt x="2" y="20"/>
                </a:lnTo>
                <a:lnTo>
                  <a:pt x="4" y="17"/>
                </a:lnTo>
                <a:lnTo>
                  <a:pt x="6" y="14"/>
                </a:lnTo>
                <a:lnTo>
                  <a:pt x="8" y="11"/>
                </a:lnTo>
                <a:lnTo>
                  <a:pt x="11" y="8"/>
                </a:lnTo>
                <a:lnTo>
                  <a:pt x="13" y="5"/>
                </a:lnTo>
                <a:lnTo>
                  <a:pt x="15" y="3"/>
                </a:lnTo>
                <a:lnTo>
                  <a:pt x="17" y="0"/>
                </a:lnTo>
              </a:path>
            </a:pathLst>
          </a:custGeom>
          <a:noFill/>
          <a:ln w="442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03520" y="3625920"/>
            <a:ext cx="501840" cy="528480"/>
          </a:xfrm>
          <a:custGeom>
            <a:avLst/>
            <a:gdLst/>
            <a:ahLst/>
            <a:rect l="l" t="t" r="r" b="b"/>
            <a:pathLst>
              <a:path w="18" h="17">
                <a:moveTo>
                  <a:pt x="0" y="17"/>
                </a:moveTo>
                <a:lnTo>
                  <a:pt x="3" y="15"/>
                </a:lnTo>
                <a:lnTo>
                  <a:pt x="5" y="12"/>
                </a:lnTo>
                <a:lnTo>
                  <a:pt x="7" y="10"/>
                </a:lnTo>
                <a:lnTo>
                  <a:pt x="9" y="8"/>
                </a:lnTo>
                <a:lnTo>
                  <a:pt x="12" y="6"/>
                </a:lnTo>
                <a:lnTo>
                  <a:pt x="14" y="4"/>
                </a:lnTo>
                <a:lnTo>
                  <a:pt x="16" y="2"/>
                </a:lnTo>
                <a:lnTo>
                  <a:pt x="18" y="0"/>
                </a:lnTo>
              </a:path>
            </a:pathLst>
          </a:custGeom>
          <a:noFill/>
          <a:ln w="442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05360" y="3159000"/>
            <a:ext cx="558720" cy="466920"/>
          </a:xfrm>
          <a:custGeom>
            <a:avLst/>
            <a:gdLst/>
            <a:ahLst/>
            <a:rect l="l" t="t" r="r" b="b"/>
            <a:pathLst>
              <a:path w="20" h="15">
                <a:moveTo>
                  <a:pt x="0" y="15"/>
                </a:moveTo>
                <a:lnTo>
                  <a:pt x="3" y="13"/>
                </a:lnTo>
                <a:lnTo>
                  <a:pt x="5" y="11"/>
                </a:lnTo>
                <a:lnTo>
                  <a:pt x="7" y="10"/>
                </a:lnTo>
                <a:lnTo>
                  <a:pt x="9" y="8"/>
                </a:lnTo>
                <a:lnTo>
                  <a:pt x="12" y="6"/>
                </a:lnTo>
                <a:lnTo>
                  <a:pt x="14" y="5"/>
                </a:lnTo>
                <a:lnTo>
                  <a:pt x="16" y="3"/>
                </a:lnTo>
                <a:lnTo>
                  <a:pt x="18" y="2"/>
                </a:lnTo>
                <a:lnTo>
                  <a:pt x="20" y="0"/>
                </a:lnTo>
              </a:path>
            </a:pathLst>
          </a:custGeom>
          <a:noFill/>
          <a:ln w="442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64080" y="2851200"/>
            <a:ext cx="501480" cy="30780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10"/>
                </a:moveTo>
                <a:lnTo>
                  <a:pt x="3" y="9"/>
                </a:lnTo>
                <a:lnTo>
                  <a:pt x="5" y="7"/>
                </a:lnTo>
                <a:lnTo>
                  <a:pt x="7" y="6"/>
                </a:lnTo>
                <a:lnTo>
                  <a:pt x="9" y="5"/>
                </a:lnTo>
                <a:lnTo>
                  <a:pt x="12" y="3"/>
                </a:lnTo>
                <a:lnTo>
                  <a:pt x="14" y="2"/>
                </a:lnTo>
                <a:lnTo>
                  <a:pt x="16" y="1"/>
                </a:lnTo>
                <a:lnTo>
                  <a:pt x="18" y="0"/>
                </a:lnTo>
              </a:path>
            </a:pathLst>
          </a:custGeom>
          <a:noFill/>
          <a:ln w="442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65560" y="2508120"/>
            <a:ext cx="584280" cy="343080"/>
          </a:xfrm>
          <a:custGeom>
            <a:avLst/>
            <a:gdLst/>
            <a:ahLst/>
            <a:rect l="l" t="t" r="r" b="b"/>
            <a:pathLst>
              <a:path w="21" h="11">
                <a:moveTo>
                  <a:pt x="0" y="11"/>
                </a:moveTo>
                <a:lnTo>
                  <a:pt x="3" y="9"/>
                </a:lnTo>
                <a:lnTo>
                  <a:pt x="5" y="8"/>
                </a:lnTo>
                <a:lnTo>
                  <a:pt x="7" y="7"/>
                </a:lnTo>
                <a:lnTo>
                  <a:pt x="9" y="6"/>
                </a:lnTo>
                <a:lnTo>
                  <a:pt x="12" y="5"/>
                </a:lnTo>
                <a:lnTo>
                  <a:pt x="14" y="4"/>
                </a:lnTo>
                <a:lnTo>
                  <a:pt x="16" y="2"/>
                </a:lnTo>
                <a:lnTo>
                  <a:pt x="18" y="1"/>
                </a:lnTo>
                <a:lnTo>
                  <a:pt x="21" y="0"/>
                </a:lnTo>
              </a:path>
            </a:pathLst>
          </a:custGeom>
          <a:noFill/>
          <a:ln w="442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649840" y="2290680"/>
            <a:ext cx="473040" cy="217440"/>
          </a:xfrm>
          <a:custGeom>
            <a:avLst/>
            <a:gdLst/>
            <a:ahLst/>
            <a:rect l="l" t="t" r="r" b="b"/>
            <a:pathLst>
              <a:path w="17" h="7">
                <a:moveTo>
                  <a:pt x="0" y="7"/>
                </a:moveTo>
                <a:lnTo>
                  <a:pt x="2" y="6"/>
                </a:lnTo>
                <a:lnTo>
                  <a:pt x="4" y="5"/>
                </a:lnTo>
                <a:lnTo>
                  <a:pt x="6" y="4"/>
                </a:lnTo>
                <a:lnTo>
                  <a:pt x="8" y="3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7" y="0"/>
                </a:lnTo>
              </a:path>
            </a:pathLst>
          </a:custGeom>
          <a:noFill/>
          <a:ln w="442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22880" y="2043000"/>
            <a:ext cx="584280" cy="247680"/>
          </a:xfrm>
          <a:custGeom>
            <a:avLst/>
            <a:gdLst/>
            <a:ahLst/>
            <a:rect l="l" t="t" r="r" b="b"/>
            <a:pathLst>
              <a:path w="21" h="8">
                <a:moveTo>
                  <a:pt x="0" y="8"/>
                </a:moveTo>
                <a:lnTo>
                  <a:pt x="3" y="7"/>
                </a:lnTo>
                <a:lnTo>
                  <a:pt x="5" y="6"/>
                </a:lnTo>
                <a:lnTo>
                  <a:pt x="7" y="5"/>
                </a:lnTo>
                <a:lnTo>
                  <a:pt x="9" y="4"/>
                </a:lnTo>
                <a:lnTo>
                  <a:pt x="12" y="3"/>
                </a:lnTo>
                <a:lnTo>
                  <a:pt x="14" y="2"/>
                </a:lnTo>
                <a:lnTo>
                  <a:pt x="16" y="2"/>
                </a:lnTo>
                <a:lnTo>
                  <a:pt x="18" y="1"/>
                </a:lnTo>
                <a:lnTo>
                  <a:pt x="21" y="0"/>
                </a:lnTo>
              </a:path>
            </a:pathLst>
          </a:custGeom>
          <a:noFill/>
          <a:ln w="442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07160" y="1855800"/>
            <a:ext cx="501840" cy="18720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lnTo>
                  <a:pt x="2" y="5"/>
                </a:lnTo>
                <a:lnTo>
                  <a:pt x="4" y="4"/>
                </a:lnTo>
                <a:lnTo>
                  <a:pt x="6" y="4"/>
                </a:lnTo>
                <a:lnTo>
                  <a:pt x="9" y="3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8" y="0"/>
                </a:lnTo>
              </a:path>
            </a:pathLst>
          </a:custGeom>
          <a:noFill/>
          <a:ln w="442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032280" y="4433760"/>
            <a:ext cx="471240" cy="744840"/>
          </a:xfrm>
          <a:custGeom>
            <a:avLst/>
            <a:gdLst/>
            <a:ahLst/>
            <a:rect l="l" t="t" r="r" b="b"/>
            <a:pathLst>
              <a:path w="17" h="24">
                <a:moveTo>
                  <a:pt x="0" y="24"/>
                </a:moveTo>
                <a:lnTo>
                  <a:pt x="2" y="20"/>
                </a:lnTo>
                <a:lnTo>
                  <a:pt x="4" y="17"/>
                </a:lnTo>
                <a:lnTo>
                  <a:pt x="6" y="14"/>
                </a:lnTo>
                <a:lnTo>
                  <a:pt x="8" y="11"/>
                </a:lnTo>
                <a:lnTo>
                  <a:pt x="11" y="8"/>
                </a:lnTo>
                <a:lnTo>
                  <a:pt x="13" y="5"/>
                </a:lnTo>
                <a:lnTo>
                  <a:pt x="15" y="3"/>
                </a:lnTo>
                <a:lnTo>
                  <a:pt x="17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03520" y="3903840"/>
            <a:ext cx="501840" cy="529920"/>
          </a:xfrm>
          <a:custGeom>
            <a:avLst/>
            <a:gdLst/>
            <a:ahLst/>
            <a:rect l="l" t="t" r="r" b="b"/>
            <a:pathLst>
              <a:path w="18" h="17">
                <a:moveTo>
                  <a:pt x="0" y="17"/>
                </a:moveTo>
                <a:lnTo>
                  <a:pt x="3" y="15"/>
                </a:lnTo>
                <a:lnTo>
                  <a:pt x="5" y="13"/>
                </a:lnTo>
                <a:lnTo>
                  <a:pt x="7" y="10"/>
                </a:lnTo>
                <a:lnTo>
                  <a:pt x="9" y="8"/>
                </a:lnTo>
                <a:lnTo>
                  <a:pt x="12" y="6"/>
                </a:lnTo>
                <a:lnTo>
                  <a:pt x="14" y="4"/>
                </a:lnTo>
                <a:lnTo>
                  <a:pt x="16" y="2"/>
                </a:lnTo>
                <a:lnTo>
                  <a:pt x="18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005360" y="3471840"/>
            <a:ext cx="558720" cy="432000"/>
          </a:xfrm>
          <a:custGeom>
            <a:avLst/>
            <a:gdLst/>
            <a:ahLst/>
            <a:rect l="l" t="t" r="r" b="b"/>
            <a:pathLst>
              <a:path w="20" h="14">
                <a:moveTo>
                  <a:pt x="0" y="14"/>
                </a:moveTo>
                <a:lnTo>
                  <a:pt x="3" y="12"/>
                </a:lnTo>
                <a:lnTo>
                  <a:pt x="5" y="11"/>
                </a:lnTo>
                <a:lnTo>
                  <a:pt x="7" y="9"/>
                </a:lnTo>
                <a:lnTo>
                  <a:pt x="9" y="7"/>
                </a:lnTo>
                <a:lnTo>
                  <a:pt x="12" y="6"/>
                </a:lnTo>
                <a:lnTo>
                  <a:pt x="14" y="4"/>
                </a:lnTo>
                <a:lnTo>
                  <a:pt x="16" y="3"/>
                </a:lnTo>
                <a:lnTo>
                  <a:pt x="18" y="1"/>
                </a:lnTo>
                <a:lnTo>
                  <a:pt x="20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64080" y="3127320"/>
            <a:ext cx="501480" cy="344520"/>
          </a:xfrm>
          <a:custGeom>
            <a:avLst/>
            <a:gdLst/>
            <a:ahLst/>
            <a:rect l="l" t="t" r="r" b="b"/>
            <a:pathLst>
              <a:path w="18" h="11">
                <a:moveTo>
                  <a:pt x="0" y="11"/>
                </a:moveTo>
                <a:lnTo>
                  <a:pt x="3" y="9"/>
                </a:lnTo>
                <a:lnTo>
                  <a:pt x="5" y="8"/>
                </a:lnTo>
                <a:lnTo>
                  <a:pt x="7" y="6"/>
                </a:lnTo>
                <a:lnTo>
                  <a:pt x="9" y="5"/>
                </a:lnTo>
                <a:lnTo>
                  <a:pt x="12" y="4"/>
                </a:lnTo>
                <a:lnTo>
                  <a:pt x="14" y="2"/>
                </a:lnTo>
                <a:lnTo>
                  <a:pt x="16" y="1"/>
                </a:lnTo>
                <a:lnTo>
                  <a:pt x="18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65560" y="2819520"/>
            <a:ext cx="584280" cy="307800"/>
          </a:xfrm>
          <a:custGeom>
            <a:avLst/>
            <a:gdLst/>
            <a:ahLst/>
            <a:rect l="l" t="t" r="r" b="b"/>
            <a:pathLst>
              <a:path w="21" h="10">
                <a:moveTo>
                  <a:pt x="0" y="10"/>
                </a:moveTo>
                <a:lnTo>
                  <a:pt x="3" y="9"/>
                </a:lnTo>
                <a:lnTo>
                  <a:pt x="5" y="8"/>
                </a:lnTo>
                <a:lnTo>
                  <a:pt x="7" y="6"/>
                </a:lnTo>
                <a:lnTo>
                  <a:pt x="9" y="5"/>
                </a:lnTo>
                <a:lnTo>
                  <a:pt x="12" y="4"/>
                </a:lnTo>
                <a:lnTo>
                  <a:pt x="14" y="3"/>
                </a:lnTo>
                <a:lnTo>
                  <a:pt x="16" y="2"/>
                </a:lnTo>
                <a:lnTo>
                  <a:pt x="18" y="1"/>
                </a:lnTo>
                <a:lnTo>
                  <a:pt x="21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49840" y="2568600"/>
            <a:ext cx="473040" cy="250920"/>
          </a:xfrm>
          <a:custGeom>
            <a:avLst/>
            <a:gdLst/>
            <a:ahLst/>
            <a:rect l="l" t="t" r="r" b="b"/>
            <a:pathLst>
              <a:path w="17" h="8">
                <a:moveTo>
                  <a:pt x="0" y="8"/>
                </a:moveTo>
                <a:lnTo>
                  <a:pt x="2" y="7"/>
                </a:lnTo>
                <a:lnTo>
                  <a:pt x="4" y="6"/>
                </a:lnTo>
                <a:lnTo>
                  <a:pt x="6" y="5"/>
                </a:lnTo>
                <a:lnTo>
                  <a:pt x="8" y="4"/>
                </a:lnTo>
                <a:lnTo>
                  <a:pt x="11" y="3"/>
                </a:lnTo>
                <a:lnTo>
                  <a:pt x="13" y="2"/>
                </a:lnTo>
                <a:lnTo>
                  <a:pt x="15" y="1"/>
                </a:lnTo>
                <a:lnTo>
                  <a:pt x="17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22880" y="2322360"/>
            <a:ext cx="584280" cy="246240"/>
          </a:xfrm>
          <a:custGeom>
            <a:avLst/>
            <a:gdLst/>
            <a:ahLst/>
            <a:rect l="l" t="t" r="r" b="b"/>
            <a:pathLst>
              <a:path w="21" h="8">
                <a:moveTo>
                  <a:pt x="0" y="8"/>
                </a:moveTo>
                <a:lnTo>
                  <a:pt x="3" y="7"/>
                </a:lnTo>
                <a:lnTo>
                  <a:pt x="5" y="6"/>
                </a:lnTo>
                <a:lnTo>
                  <a:pt x="7" y="5"/>
                </a:lnTo>
                <a:lnTo>
                  <a:pt x="9" y="5"/>
                </a:lnTo>
                <a:lnTo>
                  <a:pt x="12" y="4"/>
                </a:lnTo>
                <a:lnTo>
                  <a:pt x="14" y="3"/>
                </a:lnTo>
                <a:lnTo>
                  <a:pt x="16" y="2"/>
                </a:lnTo>
                <a:lnTo>
                  <a:pt x="18" y="1"/>
                </a:lnTo>
                <a:lnTo>
                  <a:pt x="21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707160" y="2136600"/>
            <a:ext cx="501840" cy="1857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lnTo>
                  <a:pt x="2" y="6"/>
                </a:lnTo>
                <a:lnTo>
                  <a:pt x="4" y="5"/>
                </a:lnTo>
                <a:lnTo>
                  <a:pt x="6" y="4"/>
                </a:lnTo>
                <a:lnTo>
                  <a:pt x="9" y="3"/>
                </a:lnTo>
                <a:lnTo>
                  <a:pt x="11" y="3"/>
                </a:lnTo>
                <a:lnTo>
                  <a:pt x="13" y="2"/>
                </a:lnTo>
                <a:lnTo>
                  <a:pt x="15" y="1"/>
                </a:lnTo>
                <a:lnTo>
                  <a:pt x="18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32280" y="4648320"/>
            <a:ext cx="471240" cy="498240"/>
          </a:xfrm>
          <a:custGeom>
            <a:avLst/>
            <a:gdLst/>
            <a:ahLst/>
            <a:rect l="l" t="t" r="r" b="b"/>
            <a:pathLst>
              <a:path w="17" h="16">
                <a:moveTo>
                  <a:pt x="0" y="16"/>
                </a:moveTo>
                <a:lnTo>
                  <a:pt x="2" y="14"/>
                </a:lnTo>
                <a:lnTo>
                  <a:pt x="4" y="11"/>
                </a:lnTo>
                <a:lnTo>
                  <a:pt x="6" y="9"/>
                </a:lnTo>
                <a:lnTo>
                  <a:pt x="8" y="7"/>
                </a:lnTo>
                <a:lnTo>
                  <a:pt x="11" y="5"/>
                </a:lnTo>
                <a:lnTo>
                  <a:pt x="13" y="3"/>
                </a:lnTo>
                <a:lnTo>
                  <a:pt x="15" y="1"/>
                </a:lnTo>
                <a:lnTo>
                  <a:pt x="17" y="0"/>
                </a:lnTo>
              </a:path>
            </a:pathLst>
          </a:custGeom>
          <a:noFill/>
          <a:ln w="442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503520" y="4276800"/>
            <a:ext cx="501840" cy="37152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12"/>
                </a:moveTo>
                <a:lnTo>
                  <a:pt x="3" y="10"/>
                </a:lnTo>
                <a:lnTo>
                  <a:pt x="5" y="8"/>
                </a:lnTo>
                <a:lnTo>
                  <a:pt x="7" y="7"/>
                </a:lnTo>
                <a:lnTo>
                  <a:pt x="9" y="5"/>
                </a:lnTo>
                <a:lnTo>
                  <a:pt x="12" y="4"/>
                </a:lnTo>
                <a:lnTo>
                  <a:pt x="14" y="2"/>
                </a:lnTo>
                <a:lnTo>
                  <a:pt x="16" y="1"/>
                </a:lnTo>
                <a:lnTo>
                  <a:pt x="18" y="0"/>
                </a:lnTo>
              </a:path>
            </a:pathLst>
          </a:custGeom>
          <a:noFill/>
          <a:ln w="442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005360" y="3935520"/>
            <a:ext cx="558720" cy="341280"/>
          </a:xfrm>
          <a:custGeom>
            <a:avLst/>
            <a:gdLst/>
            <a:ahLst/>
            <a:rect l="l" t="t" r="r" b="b"/>
            <a:pathLst>
              <a:path w="20" h="11">
                <a:moveTo>
                  <a:pt x="0" y="11"/>
                </a:moveTo>
                <a:lnTo>
                  <a:pt x="3" y="9"/>
                </a:lnTo>
                <a:lnTo>
                  <a:pt x="5" y="8"/>
                </a:lnTo>
                <a:lnTo>
                  <a:pt x="7" y="7"/>
                </a:lnTo>
                <a:lnTo>
                  <a:pt x="9" y="6"/>
                </a:lnTo>
                <a:lnTo>
                  <a:pt x="12" y="4"/>
                </a:lnTo>
                <a:lnTo>
                  <a:pt x="14" y="3"/>
                </a:lnTo>
                <a:lnTo>
                  <a:pt x="16" y="2"/>
                </a:lnTo>
                <a:lnTo>
                  <a:pt x="18" y="1"/>
                </a:lnTo>
                <a:lnTo>
                  <a:pt x="20" y="0"/>
                </a:lnTo>
              </a:path>
            </a:pathLst>
          </a:custGeom>
          <a:noFill/>
          <a:ln w="442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64080" y="3718080"/>
            <a:ext cx="501480" cy="21744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7"/>
                </a:moveTo>
                <a:lnTo>
                  <a:pt x="3" y="6"/>
                </a:lnTo>
                <a:lnTo>
                  <a:pt x="5" y="5"/>
                </a:lnTo>
                <a:lnTo>
                  <a:pt x="7" y="4"/>
                </a:lnTo>
                <a:lnTo>
                  <a:pt x="9" y="3"/>
                </a:lnTo>
                <a:lnTo>
                  <a:pt x="12" y="2"/>
                </a:lnTo>
                <a:lnTo>
                  <a:pt x="14" y="1"/>
                </a:lnTo>
                <a:lnTo>
                  <a:pt x="16" y="1"/>
                </a:lnTo>
                <a:lnTo>
                  <a:pt x="18" y="0"/>
                </a:lnTo>
              </a:path>
            </a:pathLst>
          </a:custGeom>
          <a:noFill/>
          <a:ln w="442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065560" y="3503520"/>
            <a:ext cx="584280" cy="214560"/>
          </a:xfrm>
          <a:custGeom>
            <a:avLst/>
            <a:gdLst/>
            <a:ahLst/>
            <a:rect l="l" t="t" r="r" b="b"/>
            <a:pathLst>
              <a:path w="21" h="7">
                <a:moveTo>
                  <a:pt x="0" y="7"/>
                </a:moveTo>
                <a:lnTo>
                  <a:pt x="3" y="6"/>
                </a:lnTo>
                <a:lnTo>
                  <a:pt x="5" y="5"/>
                </a:lnTo>
                <a:lnTo>
                  <a:pt x="7" y="4"/>
                </a:lnTo>
                <a:lnTo>
                  <a:pt x="9" y="3"/>
                </a:lnTo>
                <a:lnTo>
                  <a:pt x="12" y="3"/>
                </a:lnTo>
                <a:lnTo>
                  <a:pt x="14" y="2"/>
                </a:lnTo>
                <a:lnTo>
                  <a:pt x="16" y="1"/>
                </a:lnTo>
                <a:lnTo>
                  <a:pt x="18" y="0"/>
                </a:lnTo>
                <a:lnTo>
                  <a:pt x="21" y="0"/>
                </a:lnTo>
              </a:path>
            </a:pathLst>
          </a:custGeom>
          <a:noFill/>
          <a:ln w="442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649840" y="3313080"/>
            <a:ext cx="473040" cy="190440"/>
          </a:xfrm>
          <a:custGeom>
            <a:avLst/>
            <a:gdLst/>
            <a:ahLst/>
            <a:rect l="l" t="t" r="r" b="b"/>
            <a:pathLst>
              <a:path w="17" h="6">
                <a:moveTo>
                  <a:pt x="0" y="6"/>
                </a:moveTo>
                <a:lnTo>
                  <a:pt x="2" y="5"/>
                </a:lnTo>
                <a:lnTo>
                  <a:pt x="4" y="4"/>
                </a:lnTo>
                <a:lnTo>
                  <a:pt x="6" y="3"/>
                </a:lnTo>
                <a:lnTo>
                  <a:pt x="8" y="3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7" y="0"/>
                </a:lnTo>
              </a:path>
            </a:pathLst>
          </a:custGeom>
          <a:noFill/>
          <a:ln w="442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22880" y="3159000"/>
            <a:ext cx="584280" cy="154080"/>
          </a:xfrm>
          <a:custGeom>
            <a:avLst/>
            <a:gdLst/>
            <a:ahLst/>
            <a:rect l="l" t="t" r="r" b="b"/>
            <a:pathLst>
              <a:path w="21" h="5">
                <a:moveTo>
                  <a:pt x="0" y="5"/>
                </a:moveTo>
                <a:lnTo>
                  <a:pt x="3" y="4"/>
                </a:lnTo>
                <a:lnTo>
                  <a:pt x="5" y="4"/>
                </a:lnTo>
                <a:lnTo>
                  <a:pt x="7" y="3"/>
                </a:lnTo>
                <a:lnTo>
                  <a:pt x="9" y="3"/>
                </a:lnTo>
                <a:lnTo>
                  <a:pt x="12" y="2"/>
                </a:lnTo>
                <a:lnTo>
                  <a:pt x="14" y="1"/>
                </a:lnTo>
                <a:lnTo>
                  <a:pt x="16" y="1"/>
                </a:lnTo>
                <a:lnTo>
                  <a:pt x="18" y="0"/>
                </a:lnTo>
                <a:lnTo>
                  <a:pt x="21" y="0"/>
                </a:lnTo>
              </a:path>
            </a:pathLst>
          </a:custGeom>
          <a:noFill/>
          <a:ln w="442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7160" y="3005280"/>
            <a:ext cx="501840" cy="153720"/>
          </a:xfrm>
          <a:custGeom>
            <a:avLst/>
            <a:gdLst/>
            <a:ahLst/>
            <a:rect l="l" t="t" r="r" b="b"/>
            <a:pathLst>
              <a:path w="18" h="5">
                <a:moveTo>
                  <a:pt x="0" y="5"/>
                </a:moveTo>
                <a:lnTo>
                  <a:pt x="2" y="4"/>
                </a:lnTo>
                <a:lnTo>
                  <a:pt x="4" y="4"/>
                </a:lnTo>
                <a:lnTo>
                  <a:pt x="6" y="3"/>
                </a:lnTo>
                <a:lnTo>
                  <a:pt x="9" y="2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8" y="0"/>
                </a:lnTo>
              </a:path>
            </a:pathLst>
          </a:custGeom>
          <a:noFill/>
          <a:ln w="442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92640" y="548964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.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592640" y="493092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5.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26040" y="43401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0.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26040" y="3781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5.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11640" y="31910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0.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511640" y="26319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5.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511640" y="204300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0.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511640" y="148428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5.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40320" y="573732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.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65240" y="573732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0.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78640" y="573732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0.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938120" y="573732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0.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68440" y="573732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0.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026840" y="573732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50.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055360" y="573732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0.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67840" y="2744640"/>
            <a:ext cx="95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16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=0.91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67840" y="2001960"/>
            <a:ext cx="95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16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=0.879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02760" y="1639800"/>
            <a:ext cx="95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16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=0.93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9680" y="4108320"/>
            <a:ext cx="2187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ocRate 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ocRate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ocRate 9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99240" y="4189320"/>
            <a:ext cx="190440" cy="212760"/>
          </a:xfrm>
          <a:prstGeom prst="diamond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99240" y="4613400"/>
            <a:ext cx="190440" cy="212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99240" y="5040360"/>
            <a:ext cx="190440" cy="209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780000" y="5877000"/>
            <a:ext cx="316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Velocità nel Link (km/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-396720" y="1576440"/>
            <a:ext cx="25686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Velocità 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Ricer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V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(km/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91E8F-AB5C-47A4-83F4-F8FE89DCCBE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C6741-23CE-471B-A1E5-9D2E5DD1AB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ALCULATION STEP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ABORAZIONE DEI DATI DI TRAFFIC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IMA DEI CONSUMI DI COMBUSTIBILE ED ENERG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ALCOLO DEGLI INCIDENT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ALCOLO DELLE EMISSIONI DI INQUINAN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ALCOLO EMISSIONI DI RUM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F665D-B17E-4B02-A310-3ED115A107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CD45B-E39B-494C-BF85-017F60829A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5e5ff"/>
                </a:solidFill>
                <a:latin typeface="Comic Sans MS"/>
              </a:rPr>
              <a:t>Tempo di Ricerca &amp; Occupation Rate per diverse densità del link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31760" y="1916280"/>
            <a:ext cx="8668440" cy="4371120"/>
            <a:chOff x="131760" y="1916280"/>
            <a:chExt cx="8668440" cy="4371120"/>
          </a:xfrm>
        </p:grpSpPr>
        <p:sp>
          <p:nvSpPr>
            <p:cNvPr id="413" name=""/>
            <p:cNvSpPr/>
            <p:nvPr/>
          </p:nvSpPr>
          <p:spPr>
            <a:xfrm>
              <a:off x="1308240" y="2016000"/>
              <a:ext cx="7259400" cy="38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08240" y="2016000"/>
              <a:ext cx="725940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308240" y="2016000"/>
              <a:ext cx="7259400" cy="3836520"/>
            </a:xfrm>
            <a:prstGeom prst="rect">
              <a:avLst/>
            </a:prstGeom>
            <a:solidFill>
              <a:srgbClr val="0099cc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08240" y="2016000"/>
              <a:ext cx="1440" cy="3836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7480" y="5897520"/>
              <a:ext cx="316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76200" y="5484600"/>
              <a:ext cx="3204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76200" y="5084640"/>
              <a:ext cx="320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276200" y="4718160"/>
              <a:ext cx="3204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76200" y="4317840"/>
              <a:ext cx="320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76200" y="3951360"/>
              <a:ext cx="3204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76200" y="3549600"/>
              <a:ext cx="320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276200" y="3184560"/>
              <a:ext cx="320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76200" y="2784600"/>
              <a:ext cx="32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76200" y="2415960"/>
              <a:ext cx="320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76200" y="2016000"/>
              <a:ext cx="32040" cy="4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89160" y="5897520"/>
              <a:ext cx="725940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1289160" y="5897520"/>
              <a:ext cx="1440" cy="34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8548560" y="5897520"/>
              <a:ext cx="5040" cy="34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08240" y="3917880"/>
              <a:ext cx="3646440" cy="964800"/>
            </a:xfrm>
            <a:custGeom>
              <a:avLst/>
              <a:gdLst/>
              <a:ahLst/>
              <a:rect l="l" t="t" r="r" b="b"/>
              <a:pathLst>
                <a:path w="1287" h="316">
                  <a:moveTo>
                    <a:pt x="0" y="316"/>
                  </a:moveTo>
                  <a:lnTo>
                    <a:pt x="163" y="295"/>
                  </a:lnTo>
                  <a:lnTo>
                    <a:pt x="327" y="284"/>
                  </a:lnTo>
                  <a:lnTo>
                    <a:pt x="490" y="273"/>
                  </a:lnTo>
                  <a:lnTo>
                    <a:pt x="654" y="262"/>
                  </a:lnTo>
                  <a:lnTo>
                    <a:pt x="818" y="240"/>
                  </a:lnTo>
                  <a:lnTo>
                    <a:pt x="981" y="186"/>
                  </a:lnTo>
                  <a:lnTo>
                    <a:pt x="1058" y="153"/>
                  </a:lnTo>
                  <a:lnTo>
                    <a:pt x="1134" y="109"/>
                  </a:lnTo>
                  <a:lnTo>
                    <a:pt x="1210" y="66"/>
                  </a:lnTo>
                  <a:lnTo>
                    <a:pt x="1287" y="0"/>
                  </a:lnTo>
                </a:path>
              </a:pathLst>
            </a:custGeom>
            <a:noFill/>
            <a:ln w="176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08240" y="5251320"/>
              <a:ext cx="3646440" cy="301320"/>
            </a:xfrm>
            <a:custGeom>
              <a:avLst/>
              <a:gdLst/>
              <a:ahLst/>
              <a:rect l="l" t="t" r="r" b="b"/>
              <a:pathLst>
                <a:path w="1287" h="99">
                  <a:moveTo>
                    <a:pt x="0" y="99"/>
                  </a:moveTo>
                  <a:lnTo>
                    <a:pt x="327" y="88"/>
                  </a:lnTo>
                  <a:lnTo>
                    <a:pt x="654" y="88"/>
                  </a:lnTo>
                  <a:lnTo>
                    <a:pt x="818" y="88"/>
                  </a:lnTo>
                  <a:lnTo>
                    <a:pt x="981" y="66"/>
                  </a:lnTo>
                  <a:lnTo>
                    <a:pt x="1134" y="44"/>
                  </a:lnTo>
                  <a:lnTo>
                    <a:pt x="1287" y="0"/>
                  </a:lnTo>
                </a:path>
              </a:pathLst>
            </a:custGeom>
            <a:noFill/>
            <a:ln w="176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54680" y="3083040"/>
              <a:ext cx="2903400" cy="2167920"/>
            </a:xfrm>
            <a:custGeom>
              <a:avLst/>
              <a:gdLst/>
              <a:ahLst/>
              <a:rect l="l" t="t" r="r" b="b"/>
              <a:pathLst>
                <a:path w="1025" h="709">
                  <a:moveTo>
                    <a:pt x="0" y="709"/>
                  </a:moveTo>
                  <a:lnTo>
                    <a:pt x="142" y="655"/>
                  </a:lnTo>
                  <a:lnTo>
                    <a:pt x="294" y="579"/>
                  </a:lnTo>
                  <a:lnTo>
                    <a:pt x="447" y="502"/>
                  </a:lnTo>
                  <a:lnTo>
                    <a:pt x="589" y="404"/>
                  </a:lnTo>
                  <a:lnTo>
                    <a:pt x="720" y="306"/>
                  </a:lnTo>
                  <a:lnTo>
                    <a:pt x="840" y="208"/>
                  </a:lnTo>
                  <a:lnTo>
                    <a:pt x="938" y="98"/>
                  </a:lnTo>
                  <a:lnTo>
                    <a:pt x="1025" y="0"/>
                  </a:lnTo>
                </a:path>
              </a:pathLst>
            </a:custGeom>
            <a:noFill/>
            <a:ln w="176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08240" y="5484600"/>
              <a:ext cx="3646440" cy="233280"/>
            </a:xfrm>
            <a:custGeom>
              <a:avLst/>
              <a:gdLst/>
              <a:ahLst/>
              <a:rect l="l" t="t" r="r" b="b"/>
              <a:pathLst>
                <a:path w="1287" h="76">
                  <a:moveTo>
                    <a:pt x="0" y="65"/>
                  </a:moveTo>
                  <a:lnTo>
                    <a:pt x="327" y="65"/>
                  </a:lnTo>
                  <a:lnTo>
                    <a:pt x="654" y="76"/>
                  </a:lnTo>
                  <a:lnTo>
                    <a:pt x="818" y="65"/>
                  </a:lnTo>
                  <a:lnTo>
                    <a:pt x="981" y="54"/>
                  </a:lnTo>
                  <a:lnTo>
                    <a:pt x="1134" y="33"/>
                  </a:lnTo>
                  <a:lnTo>
                    <a:pt x="1287" y="0"/>
                  </a:lnTo>
                </a:path>
              </a:pathLst>
            </a:custGeom>
            <a:noFill/>
            <a:ln w="176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54680" y="3483000"/>
              <a:ext cx="2903400" cy="2001240"/>
            </a:xfrm>
            <a:custGeom>
              <a:avLst/>
              <a:gdLst/>
              <a:ahLst/>
              <a:rect l="l" t="t" r="r" b="b"/>
              <a:pathLst>
                <a:path w="1025" h="655">
                  <a:moveTo>
                    <a:pt x="0" y="655"/>
                  </a:moveTo>
                  <a:lnTo>
                    <a:pt x="142" y="600"/>
                  </a:lnTo>
                  <a:lnTo>
                    <a:pt x="294" y="535"/>
                  </a:lnTo>
                  <a:lnTo>
                    <a:pt x="447" y="458"/>
                  </a:lnTo>
                  <a:lnTo>
                    <a:pt x="589" y="371"/>
                  </a:lnTo>
                  <a:lnTo>
                    <a:pt x="720" y="284"/>
                  </a:lnTo>
                  <a:lnTo>
                    <a:pt x="840" y="186"/>
                  </a:lnTo>
                  <a:lnTo>
                    <a:pt x="938" y="87"/>
                  </a:lnTo>
                  <a:lnTo>
                    <a:pt x="1025" y="0"/>
                  </a:lnTo>
                </a:path>
              </a:pathLst>
            </a:custGeom>
            <a:noFill/>
            <a:ln w="176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08240" y="5586480"/>
              <a:ext cx="3646440" cy="164520"/>
            </a:xfrm>
            <a:custGeom>
              <a:avLst/>
              <a:gdLst/>
              <a:ahLst/>
              <a:rect l="l" t="t" r="r" b="b"/>
              <a:pathLst>
                <a:path w="1287" h="54">
                  <a:moveTo>
                    <a:pt x="0" y="43"/>
                  </a:moveTo>
                  <a:lnTo>
                    <a:pt x="327" y="43"/>
                  </a:lnTo>
                  <a:lnTo>
                    <a:pt x="654" y="54"/>
                  </a:lnTo>
                  <a:lnTo>
                    <a:pt x="818" y="54"/>
                  </a:lnTo>
                  <a:lnTo>
                    <a:pt x="981" y="43"/>
                  </a:lnTo>
                  <a:lnTo>
                    <a:pt x="1134" y="32"/>
                  </a:lnTo>
                  <a:lnTo>
                    <a:pt x="1287" y="0"/>
                  </a:lnTo>
                </a:path>
              </a:pathLst>
            </a:custGeom>
            <a:noFill/>
            <a:ln w="176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54680" y="3882960"/>
              <a:ext cx="2903400" cy="1703160"/>
            </a:xfrm>
            <a:custGeom>
              <a:avLst/>
              <a:gdLst/>
              <a:ahLst/>
              <a:rect l="l" t="t" r="r" b="b"/>
              <a:pathLst>
                <a:path w="1025" h="557">
                  <a:moveTo>
                    <a:pt x="0" y="557"/>
                  </a:moveTo>
                  <a:lnTo>
                    <a:pt x="142" y="513"/>
                  </a:lnTo>
                  <a:lnTo>
                    <a:pt x="294" y="458"/>
                  </a:lnTo>
                  <a:lnTo>
                    <a:pt x="447" y="393"/>
                  </a:lnTo>
                  <a:lnTo>
                    <a:pt x="589" y="317"/>
                  </a:lnTo>
                  <a:lnTo>
                    <a:pt x="720" y="240"/>
                  </a:lnTo>
                  <a:lnTo>
                    <a:pt x="840" y="153"/>
                  </a:lnTo>
                  <a:lnTo>
                    <a:pt x="938" y="77"/>
                  </a:lnTo>
                  <a:lnTo>
                    <a:pt x="1025" y="0"/>
                  </a:lnTo>
                </a:path>
              </a:pathLst>
            </a:custGeom>
            <a:noFill/>
            <a:ln w="176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58080" y="1947960"/>
              <a:ext cx="339840" cy="1934640"/>
            </a:xfrm>
            <a:custGeom>
              <a:avLst/>
              <a:gdLst/>
              <a:ahLst/>
              <a:rect l="l" t="t" r="r" b="b"/>
              <a:pathLst>
                <a:path w="120" h="633">
                  <a:moveTo>
                    <a:pt x="0" y="633"/>
                  </a:moveTo>
                  <a:lnTo>
                    <a:pt x="55" y="557"/>
                  </a:lnTo>
                  <a:lnTo>
                    <a:pt x="98" y="480"/>
                  </a:lnTo>
                  <a:lnTo>
                    <a:pt x="109" y="404"/>
                  </a:lnTo>
                  <a:lnTo>
                    <a:pt x="120" y="317"/>
                  </a:lnTo>
                  <a:lnTo>
                    <a:pt x="109" y="164"/>
                  </a:lnTo>
                  <a:lnTo>
                    <a:pt x="109" y="77"/>
                  </a:lnTo>
                  <a:lnTo>
                    <a:pt x="120" y="0"/>
                  </a:lnTo>
                </a:path>
              </a:pathLst>
            </a:custGeom>
            <a:noFill/>
            <a:ln w="176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08240" y="5616360"/>
              <a:ext cx="3646440" cy="169560"/>
            </a:xfrm>
            <a:custGeom>
              <a:avLst/>
              <a:gdLst/>
              <a:ahLst/>
              <a:rect l="l" t="t" r="r" b="b"/>
              <a:pathLst>
                <a:path w="1287" h="55">
                  <a:moveTo>
                    <a:pt x="0" y="44"/>
                  </a:moveTo>
                  <a:lnTo>
                    <a:pt x="327" y="44"/>
                  </a:lnTo>
                  <a:lnTo>
                    <a:pt x="654" y="55"/>
                  </a:lnTo>
                  <a:lnTo>
                    <a:pt x="818" y="55"/>
                  </a:lnTo>
                  <a:lnTo>
                    <a:pt x="981" y="44"/>
                  </a:lnTo>
                  <a:lnTo>
                    <a:pt x="1134" y="22"/>
                  </a:lnTo>
                  <a:lnTo>
                    <a:pt x="1287" y="0"/>
                  </a:lnTo>
                </a:path>
              </a:pathLst>
            </a:custGeom>
            <a:noFill/>
            <a:ln w="176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54680" y="4119480"/>
              <a:ext cx="2903400" cy="1496520"/>
            </a:xfrm>
            <a:custGeom>
              <a:avLst/>
              <a:gdLst/>
              <a:ahLst/>
              <a:rect l="l" t="t" r="r" b="b"/>
              <a:pathLst>
                <a:path w="1025" h="490">
                  <a:moveTo>
                    <a:pt x="0" y="490"/>
                  </a:moveTo>
                  <a:lnTo>
                    <a:pt x="142" y="447"/>
                  </a:lnTo>
                  <a:lnTo>
                    <a:pt x="294" y="403"/>
                  </a:lnTo>
                  <a:lnTo>
                    <a:pt x="447" y="338"/>
                  </a:lnTo>
                  <a:lnTo>
                    <a:pt x="589" y="272"/>
                  </a:lnTo>
                  <a:lnTo>
                    <a:pt x="720" y="207"/>
                  </a:lnTo>
                  <a:lnTo>
                    <a:pt x="840" y="141"/>
                  </a:lnTo>
                  <a:lnTo>
                    <a:pt x="938" y="65"/>
                  </a:lnTo>
                  <a:lnTo>
                    <a:pt x="1025" y="0"/>
                  </a:lnTo>
                </a:path>
              </a:pathLst>
            </a:custGeom>
            <a:noFill/>
            <a:ln w="176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858080" y="2415960"/>
              <a:ext cx="339840" cy="1703160"/>
            </a:xfrm>
            <a:custGeom>
              <a:avLst/>
              <a:gdLst/>
              <a:ahLst/>
              <a:rect l="l" t="t" r="r" b="b"/>
              <a:pathLst>
                <a:path w="120" h="557">
                  <a:moveTo>
                    <a:pt x="0" y="557"/>
                  </a:moveTo>
                  <a:lnTo>
                    <a:pt x="55" y="491"/>
                  </a:lnTo>
                  <a:lnTo>
                    <a:pt x="98" y="426"/>
                  </a:lnTo>
                  <a:lnTo>
                    <a:pt x="109" y="349"/>
                  </a:lnTo>
                  <a:lnTo>
                    <a:pt x="120" y="284"/>
                  </a:lnTo>
                  <a:lnTo>
                    <a:pt x="109" y="142"/>
                  </a:lnTo>
                  <a:lnTo>
                    <a:pt x="109" y="66"/>
                  </a:lnTo>
                  <a:lnTo>
                    <a:pt x="120" y="0"/>
                  </a:lnTo>
                </a:path>
              </a:pathLst>
            </a:custGeom>
            <a:noFill/>
            <a:ln w="176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08240" y="5616360"/>
              <a:ext cx="3646440" cy="134640"/>
            </a:xfrm>
            <a:custGeom>
              <a:avLst/>
              <a:gdLst/>
              <a:ahLst/>
              <a:rect l="l" t="t" r="r" b="b"/>
              <a:pathLst>
                <a:path w="1287" h="44">
                  <a:moveTo>
                    <a:pt x="0" y="44"/>
                  </a:moveTo>
                  <a:lnTo>
                    <a:pt x="327" y="44"/>
                  </a:lnTo>
                  <a:lnTo>
                    <a:pt x="654" y="44"/>
                  </a:lnTo>
                  <a:lnTo>
                    <a:pt x="981" y="44"/>
                  </a:lnTo>
                  <a:lnTo>
                    <a:pt x="1134" y="22"/>
                  </a:lnTo>
                  <a:lnTo>
                    <a:pt x="1287" y="0"/>
                  </a:lnTo>
                </a:path>
              </a:pathLst>
            </a:custGeom>
            <a:noFill/>
            <a:ln w="176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54680" y="4317840"/>
              <a:ext cx="2903400" cy="1298160"/>
            </a:xfrm>
            <a:custGeom>
              <a:avLst/>
              <a:gdLst/>
              <a:ahLst/>
              <a:rect l="l" t="t" r="r" b="b"/>
              <a:pathLst>
                <a:path w="1025" h="425">
                  <a:moveTo>
                    <a:pt x="0" y="425"/>
                  </a:moveTo>
                  <a:lnTo>
                    <a:pt x="142" y="393"/>
                  </a:lnTo>
                  <a:lnTo>
                    <a:pt x="294" y="349"/>
                  </a:lnTo>
                  <a:lnTo>
                    <a:pt x="447" y="295"/>
                  </a:lnTo>
                  <a:lnTo>
                    <a:pt x="589" y="240"/>
                  </a:lnTo>
                  <a:lnTo>
                    <a:pt x="720" y="185"/>
                  </a:lnTo>
                  <a:lnTo>
                    <a:pt x="840" y="120"/>
                  </a:lnTo>
                  <a:lnTo>
                    <a:pt x="938" y="55"/>
                  </a:lnTo>
                  <a:lnTo>
                    <a:pt x="1025" y="0"/>
                  </a:lnTo>
                </a:path>
              </a:pathLst>
            </a:custGeom>
            <a:noFill/>
            <a:ln w="176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58080" y="2784600"/>
              <a:ext cx="339840" cy="1532880"/>
            </a:xfrm>
            <a:custGeom>
              <a:avLst/>
              <a:gdLst/>
              <a:ahLst/>
              <a:rect l="l" t="t" r="r" b="b"/>
              <a:pathLst>
                <a:path w="120" h="502">
                  <a:moveTo>
                    <a:pt x="0" y="502"/>
                  </a:moveTo>
                  <a:lnTo>
                    <a:pt x="55" y="447"/>
                  </a:lnTo>
                  <a:lnTo>
                    <a:pt x="98" y="382"/>
                  </a:lnTo>
                  <a:lnTo>
                    <a:pt x="109" y="316"/>
                  </a:lnTo>
                  <a:lnTo>
                    <a:pt x="120" y="251"/>
                  </a:lnTo>
                  <a:lnTo>
                    <a:pt x="109" y="131"/>
                  </a:lnTo>
                  <a:lnTo>
                    <a:pt x="109" y="66"/>
                  </a:lnTo>
                  <a:lnTo>
                    <a:pt x="120" y="0"/>
                  </a:lnTo>
                </a:path>
              </a:pathLst>
            </a:custGeom>
            <a:noFill/>
            <a:ln w="176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12840" y="4786200"/>
              <a:ext cx="185760" cy="19800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3" y="0"/>
                  </a:moveTo>
                  <a:lnTo>
                    <a:pt x="65" y="32"/>
                  </a:lnTo>
                  <a:lnTo>
                    <a:pt x="33" y="65"/>
                  </a:lnTo>
                  <a:lnTo>
                    <a:pt x="0" y="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176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62520" y="3816360"/>
              <a:ext cx="184320" cy="20124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176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12840" y="5452920"/>
              <a:ext cx="185760" cy="19800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3" y="0"/>
                  </a:moveTo>
                  <a:lnTo>
                    <a:pt x="65" y="65"/>
                  </a:lnTo>
                  <a:lnTo>
                    <a:pt x="0" y="6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76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62520" y="5151240"/>
              <a:ext cx="184320" cy="19980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33" y="0"/>
                  </a:moveTo>
                  <a:lnTo>
                    <a:pt x="66" y="65"/>
                  </a:lnTo>
                  <a:lnTo>
                    <a:pt x="0" y="6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76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65920" y="2986200"/>
              <a:ext cx="185760" cy="19800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2" y="0"/>
                  </a:moveTo>
                  <a:lnTo>
                    <a:pt x="65" y="65"/>
                  </a:lnTo>
                  <a:lnTo>
                    <a:pt x="0" y="6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0000"/>
            </a:solidFill>
            <a:ln w="176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84400" y="5553000"/>
              <a:ext cx="2761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1212480" y="5586480"/>
              <a:ext cx="95400" cy="97920"/>
            </a:xfrm>
            <a:prstGeom prst="line">
              <a:avLst/>
            </a:prstGeom>
            <a:ln w="176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08240" y="5684760"/>
              <a:ext cx="90360" cy="101160"/>
            </a:xfrm>
            <a:prstGeom prst="line">
              <a:avLst/>
            </a:prstGeom>
            <a:ln w="176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1212480" y="5684760"/>
              <a:ext cx="95400" cy="101160"/>
            </a:xfrm>
            <a:prstGeom prst="line">
              <a:avLst/>
            </a:prstGeom>
            <a:ln w="176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1308240" y="5586480"/>
              <a:ext cx="90360" cy="97920"/>
            </a:xfrm>
            <a:prstGeom prst="line">
              <a:avLst/>
            </a:prstGeom>
            <a:ln w="176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1308240" y="5586480"/>
              <a:ext cx="1440" cy="97920"/>
            </a:xfrm>
            <a:prstGeom prst="line">
              <a:avLst/>
            </a:prstGeom>
            <a:ln w="176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08240" y="5684760"/>
              <a:ext cx="1440" cy="101160"/>
            </a:xfrm>
            <a:prstGeom prst="line">
              <a:avLst/>
            </a:prstGeom>
            <a:ln w="176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29040" y="5351400"/>
              <a:ext cx="2779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4862520" y="5384880"/>
              <a:ext cx="92160" cy="99360"/>
            </a:xfrm>
            <a:prstGeom prst="line">
              <a:avLst/>
            </a:prstGeom>
            <a:ln w="176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54680" y="5484600"/>
              <a:ext cx="92160" cy="101520"/>
            </a:xfrm>
            <a:prstGeom prst="line">
              <a:avLst/>
            </a:prstGeom>
            <a:ln w="176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4862520" y="5484600"/>
              <a:ext cx="92160" cy="101520"/>
            </a:xfrm>
            <a:prstGeom prst="line">
              <a:avLst/>
            </a:prstGeom>
            <a:ln w="176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4954680" y="5384880"/>
              <a:ext cx="92160" cy="99360"/>
            </a:xfrm>
            <a:prstGeom prst="line">
              <a:avLst/>
            </a:prstGeom>
            <a:ln w="176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954680" y="5384880"/>
              <a:ext cx="1440" cy="99360"/>
            </a:xfrm>
            <a:prstGeom prst="line">
              <a:avLst/>
            </a:prstGeom>
            <a:ln w="176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54680" y="5484600"/>
              <a:ext cx="1440" cy="101520"/>
            </a:xfrm>
            <a:prstGeom prst="line">
              <a:avLst/>
            </a:prstGeom>
            <a:ln w="176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36040" y="3351240"/>
              <a:ext cx="27756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7765920" y="3382560"/>
              <a:ext cx="92160" cy="99720"/>
            </a:xfrm>
            <a:prstGeom prst="line">
              <a:avLst/>
            </a:prstGeom>
            <a:ln w="176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858080" y="3483000"/>
              <a:ext cx="93600" cy="101160"/>
            </a:xfrm>
            <a:prstGeom prst="line">
              <a:avLst/>
            </a:prstGeom>
            <a:ln w="176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765920" y="3483000"/>
              <a:ext cx="92160" cy="101160"/>
            </a:xfrm>
            <a:prstGeom prst="line">
              <a:avLst/>
            </a:prstGeom>
            <a:ln w="176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7858080" y="3382560"/>
              <a:ext cx="93600" cy="99720"/>
            </a:xfrm>
            <a:prstGeom prst="line">
              <a:avLst/>
            </a:prstGeom>
            <a:ln w="176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7858080" y="3382560"/>
              <a:ext cx="4680" cy="99720"/>
            </a:xfrm>
            <a:prstGeom prst="line">
              <a:avLst/>
            </a:prstGeom>
            <a:ln w="176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858080" y="3483000"/>
              <a:ext cx="4680" cy="101160"/>
            </a:xfrm>
            <a:prstGeom prst="line">
              <a:avLst/>
            </a:prstGeom>
            <a:ln w="176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12840" y="5616360"/>
              <a:ext cx="154080" cy="169560"/>
            </a:xfrm>
            <a:prstGeom prst="ellipse">
              <a:avLst/>
            </a:prstGeom>
            <a:solidFill>
              <a:srgbClr val="800000"/>
            </a:solidFill>
            <a:ln w="176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62520" y="5484600"/>
              <a:ext cx="154080" cy="166320"/>
            </a:xfrm>
            <a:prstGeom prst="ellipse">
              <a:avLst/>
            </a:prstGeom>
            <a:solidFill>
              <a:srgbClr val="800000"/>
            </a:solidFill>
            <a:ln w="176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765920" y="3782880"/>
              <a:ext cx="154080" cy="168120"/>
            </a:xfrm>
            <a:prstGeom prst="ellipse">
              <a:avLst/>
            </a:prstGeom>
            <a:solidFill>
              <a:srgbClr val="800000"/>
            </a:solidFill>
            <a:ln w="176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84400" y="5616360"/>
              <a:ext cx="2761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1308240" y="5650920"/>
              <a:ext cx="1440" cy="99720"/>
            </a:xfrm>
            <a:prstGeom prst="line">
              <a:avLst/>
            </a:prstGeom>
            <a:ln w="176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308240" y="5751360"/>
              <a:ext cx="1440" cy="101160"/>
            </a:xfrm>
            <a:prstGeom prst="line">
              <a:avLst/>
            </a:prstGeom>
            <a:ln w="176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1212480" y="5751360"/>
              <a:ext cx="95400" cy="2880"/>
            </a:xfrm>
            <a:prstGeom prst="line">
              <a:avLst/>
            </a:prstGeom>
            <a:ln w="176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08240" y="5751360"/>
              <a:ext cx="90360" cy="2880"/>
            </a:xfrm>
            <a:prstGeom prst="line">
              <a:avLst/>
            </a:prstGeom>
            <a:ln w="176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29040" y="5484600"/>
              <a:ext cx="277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954680" y="5519520"/>
              <a:ext cx="1440" cy="96480"/>
            </a:xfrm>
            <a:prstGeom prst="line">
              <a:avLst/>
            </a:prstGeom>
            <a:ln w="176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54680" y="5616360"/>
              <a:ext cx="1440" cy="101520"/>
            </a:xfrm>
            <a:prstGeom prst="line">
              <a:avLst/>
            </a:prstGeom>
            <a:ln w="176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4862520" y="5616360"/>
              <a:ext cx="92160" cy="2880"/>
            </a:xfrm>
            <a:prstGeom prst="line">
              <a:avLst/>
            </a:prstGeom>
            <a:ln w="176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54680" y="5616360"/>
              <a:ext cx="92160" cy="2880"/>
            </a:xfrm>
            <a:prstGeom prst="line">
              <a:avLst/>
            </a:prstGeom>
            <a:ln w="176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36040" y="3984480"/>
              <a:ext cx="277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858080" y="4017600"/>
              <a:ext cx="4680" cy="101160"/>
            </a:xfrm>
            <a:prstGeom prst="line">
              <a:avLst/>
            </a:prstGeom>
            <a:ln w="176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858080" y="4119480"/>
              <a:ext cx="4680" cy="96480"/>
            </a:xfrm>
            <a:prstGeom prst="line">
              <a:avLst/>
            </a:prstGeom>
            <a:ln w="176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7765920" y="4119480"/>
              <a:ext cx="92160" cy="2880"/>
            </a:xfrm>
            <a:prstGeom prst="line">
              <a:avLst/>
            </a:prstGeom>
            <a:ln w="176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58080" y="4119480"/>
              <a:ext cx="93600" cy="2880"/>
            </a:xfrm>
            <a:prstGeom prst="line">
              <a:avLst/>
            </a:prstGeom>
            <a:ln w="176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075520" y="2281320"/>
              <a:ext cx="2779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8197920" y="2316240"/>
              <a:ext cx="3240" cy="99360"/>
            </a:xfrm>
            <a:prstGeom prst="line">
              <a:avLst/>
            </a:prstGeom>
            <a:ln w="176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97920" y="2415960"/>
              <a:ext cx="3240" cy="101520"/>
            </a:xfrm>
            <a:prstGeom prst="line">
              <a:avLst/>
            </a:prstGeom>
            <a:ln w="176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8108640" y="2415960"/>
              <a:ext cx="88920" cy="2880"/>
            </a:xfrm>
            <a:prstGeom prst="line">
              <a:avLst/>
            </a:prstGeom>
            <a:ln w="176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197920" y="2415960"/>
              <a:ext cx="92160" cy="2880"/>
            </a:xfrm>
            <a:prstGeom prst="line">
              <a:avLst/>
            </a:prstGeom>
            <a:ln w="176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08240" y="5718240"/>
              <a:ext cx="90360" cy="32760"/>
            </a:xfrm>
            <a:prstGeom prst="rect">
              <a:avLst/>
            </a:prstGeom>
            <a:solidFill>
              <a:srgbClr val="00ff00"/>
            </a:solidFill>
            <a:ln w="176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54680" y="5586480"/>
              <a:ext cx="92160" cy="29520"/>
            </a:xfrm>
            <a:prstGeom prst="rect">
              <a:avLst/>
            </a:prstGeom>
            <a:solidFill>
              <a:srgbClr val="00ff00"/>
            </a:solidFill>
            <a:ln w="176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858080" y="4284720"/>
              <a:ext cx="93600" cy="32760"/>
            </a:xfrm>
            <a:prstGeom prst="rect">
              <a:avLst/>
            </a:prstGeom>
            <a:solidFill>
              <a:srgbClr val="00ff00"/>
            </a:solidFill>
            <a:ln w="176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197920" y="2749320"/>
              <a:ext cx="92160" cy="34920"/>
            </a:xfrm>
            <a:prstGeom prst="rect">
              <a:avLst/>
            </a:prstGeom>
            <a:solidFill>
              <a:srgbClr val="00ff00"/>
            </a:solidFill>
            <a:ln w="176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84520" y="5751360"/>
              <a:ext cx="30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0920" y="5384880"/>
              <a:ext cx="38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2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0920" y="4984560"/>
              <a:ext cx="38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4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0920" y="4616280"/>
              <a:ext cx="38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6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90920" y="4216320"/>
              <a:ext cx="38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8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9640" y="385128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10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9640" y="344952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12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9640" y="308304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14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9640" y="268272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16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9640" y="231624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18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04160" y="191628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20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97280" y="6016680"/>
              <a:ext cx="38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9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323920" y="601668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10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11560" y="6043680"/>
              <a:ext cx="19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Occupation</a:t>
              </a:r>
              <a:r>
                <a:rPr b="1" lang="it-IT" sz="1600" spc="-1" strike="noStrike">
                  <a:solidFill>
                    <a:srgbClr val="ffffff"/>
                  </a:solidFill>
                  <a:latin typeface="Comic Sans MS"/>
                </a:rPr>
                <a:t> rate(%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4959360" y="1936440"/>
              <a:ext cx="1495440" cy="20538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815240" y="2082240"/>
              <a:ext cx="273240" cy="10285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815240" y="1936440"/>
              <a:ext cx="407880" cy="161244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6200000">
              <a:off x="-907920" y="3492360"/>
              <a:ext cx="266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Comic Sans MS"/>
                </a:rPr>
                <a:t>Te,po di Ricerca Tsearch (sec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68640" y="2343240"/>
              <a:ext cx="172800" cy="13752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176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68640" y="2608200"/>
              <a:ext cx="172800" cy="13608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33" y="0"/>
                  </a:moveTo>
                  <a:lnTo>
                    <a:pt x="66" y="65"/>
                  </a:lnTo>
                  <a:lnTo>
                    <a:pt x="0" y="6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76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2162160" y="2878200"/>
              <a:ext cx="255240" cy="204120"/>
              <a:chOff x="2162160" y="2878200"/>
              <a:chExt cx="255240" cy="204120"/>
            </a:xfrm>
          </p:grpSpPr>
          <p:sp>
            <p:nvSpPr>
              <p:cNvPr id="519" name=""/>
              <p:cNvSpPr/>
              <p:nvPr/>
            </p:nvSpPr>
            <p:spPr>
              <a:xfrm>
                <a:off x="2162160" y="2878200"/>
                <a:ext cx="255240" cy="20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 flipV="1">
                <a:off x="2189880" y="2898720"/>
                <a:ext cx="83160" cy="68400"/>
              </a:xfrm>
              <a:prstGeom prst="line">
                <a:avLst/>
              </a:prstGeom>
              <a:ln w="176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273760" y="2967480"/>
                <a:ext cx="86040" cy="68760"/>
              </a:xfrm>
              <a:prstGeom prst="line">
                <a:avLst/>
              </a:prstGeom>
              <a:ln w="176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2189880" y="2967480"/>
                <a:ext cx="83160" cy="68760"/>
              </a:xfrm>
              <a:prstGeom prst="line">
                <a:avLst/>
              </a:prstGeom>
              <a:ln w="176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2273760" y="2898720"/>
                <a:ext cx="86040" cy="68400"/>
              </a:xfrm>
              <a:prstGeom prst="line">
                <a:avLst/>
              </a:prstGeom>
              <a:ln w="176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2273760" y="2898720"/>
                <a:ext cx="2880" cy="68400"/>
              </a:xfrm>
              <a:prstGeom prst="line">
                <a:avLst/>
              </a:prstGeom>
              <a:ln w="176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273760" y="2967480"/>
                <a:ext cx="2880" cy="68760"/>
              </a:xfrm>
              <a:prstGeom prst="line">
                <a:avLst/>
              </a:prstGeom>
              <a:ln w="176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2189160" y="3168720"/>
              <a:ext cx="141120" cy="113760"/>
            </a:xfrm>
            <a:prstGeom prst="ellipse">
              <a:avLst/>
            </a:prstGeom>
            <a:solidFill>
              <a:srgbClr val="800000"/>
            </a:solidFill>
            <a:ln w="176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2188800" y="3444840"/>
              <a:ext cx="169560" cy="137520"/>
              <a:chOff x="2188800" y="3444840"/>
              <a:chExt cx="169560" cy="137520"/>
            </a:xfrm>
          </p:grpSpPr>
          <p:sp>
            <p:nvSpPr>
              <p:cNvPr id="528" name=""/>
              <p:cNvSpPr/>
              <p:nvPr/>
            </p:nvSpPr>
            <p:spPr>
              <a:xfrm flipV="1">
                <a:off x="2272320" y="3444840"/>
                <a:ext cx="2880" cy="68400"/>
              </a:xfrm>
              <a:prstGeom prst="line">
                <a:avLst/>
              </a:prstGeom>
              <a:ln w="176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272320" y="3513240"/>
                <a:ext cx="2880" cy="69120"/>
              </a:xfrm>
              <a:prstGeom prst="line">
                <a:avLst/>
              </a:prstGeom>
              <a:ln w="176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2188800" y="3513240"/>
                <a:ext cx="83160" cy="2160"/>
              </a:xfrm>
              <a:prstGeom prst="line">
                <a:avLst/>
              </a:prstGeom>
              <a:ln w="176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272320" y="3513240"/>
                <a:ext cx="86040" cy="2160"/>
              </a:xfrm>
              <a:prstGeom prst="line">
                <a:avLst/>
              </a:prstGeom>
              <a:ln w="176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2247840" y="3781440"/>
              <a:ext cx="87480" cy="21960"/>
            </a:xfrm>
            <a:prstGeom prst="rect">
              <a:avLst/>
            </a:prstGeom>
            <a:solidFill>
              <a:srgbClr val="00ff00"/>
            </a:solidFill>
            <a:ln w="176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90680" y="2265480"/>
              <a:ext cx="542880" cy="16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10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7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5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3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2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1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19200" y="2060640"/>
              <a:ext cx="190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ensity of lin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1403280" y="907920"/>
                <a:ext cx="69138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archin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archin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arching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c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c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90EBC-1BE1-4CAB-B7E3-6D587862541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648B7-6B04-4255-AD6E-718BF4DC0F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5435640" y="4941720"/>
            <a:ext cx="201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SSIGNEMENT DEM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O ISLE WITH GREA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T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ESPECT CAPACITY OF IS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27640" y="278136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292880" y="6518160"/>
            <a:ext cx="2333880" cy="1374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Detailed Parking Off Stree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47640" y="2276640"/>
            <a:ext cx="10796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da9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Garamond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987640" y="1125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765600" y="692280"/>
            <a:ext cx="1368360" cy="936360"/>
          </a:xfrm>
          <a:prstGeom prst="diamond">
            <a:avLst/>
          </a:prstGeom>
          <a:gradFill rotWithShape="0">
            <a:gsLst>
              <a:gs pos="0">
                <a:srgbClr val="aedeee"/>
              </a:gs>
              <a:gs pos="100000">
                <a:srgbClr val="0099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Garamond"/>
              </a:rPr>
              <a:t>Park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Garamond"/>
              </a:rPr>
              <a:t>Geome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62560" y="1125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083280" y="692280"/>
            <a:ext cx="1152720" cy="865080"/>
          </a:xfrm>
          <a:prstGeom prst="rect">
            <a:avLst/>
          </a:prstGeom>
          <a:gradFill rotWithShape="0">
            <a:gsLst>
              <a:gs pos="0">
                <a:srgbClr val="fe8f73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Garamond"/>
              </a:rPr>
              <a:t>Park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Garamond"/>
              </a:rPr>
              <a:t>on stre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algorith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4773600" y="5734080"/>
                <a:ext cx="39751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archin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archin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arching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c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c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47" name=""/>
          <p:cNvGrpSpPr/>
          <p:nvPr/>
        </p:nvGrpSpPr>
        <p:grpSpPr>
          <a:xfrm>
            <a:off x="1969920" y="3357720"/>
            <a:ext cx="4833720" cy="2869920"/>
            <a:chOff x="1969920" y="3357720"/>
            <a:chExt cx="4833720" cy="2869920"/>
          </a:xfrm>
        </p:grpSpPr>
        <p:sp>
          <p:nvSpPr>
            <p:cNvPr id="548" name=""/>
            <p:cNvSpPr/>
            <p:nvPr/>
          </p:nvSpPr>
          <p:spPr>
            <a:xfrm>
              <a:off x="2185920" y="3357720"/>
              <a:ext cx="4608360" cy="26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49" name=""/>
            <p:cNvGraphicFramePr/>
            <p:nvPr/>
          </p:nvGraphicFramePr>
          <p:xfrm>
            <a:off x="1969920" y="3357720"/>
            <a:ext cx="4833720" cy="28699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69920" y="3357720"/>
                      <a:ext cx="4833720" cy="286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1" name=""/>
          <p:cNvSpPr/>
          <p:nvPr/>
        </p:nvSpPr>
        <p:spPr>
          <a:xfrm>
            <a:off x="1706400" y="893880"/>
            <a:ext cx="10796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da9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Garamond"/>
              </a:rPr>
              <a:t>Park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Garamond"/>
              </a:rPr>
              <a:t>dem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951360" y="2278080"/>
            <a:ext cx="10792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da9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Garamond"/>
              </a:rPr>
              <a:t>IS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27640" y="2349360"/>
            <a:ext cx="122400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da9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Garamond"/>
              </a:rPr>
              <a:t>MATRIX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Garamond"/>
              </a:rPr>
              <a:t>PATH-LI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050920" y="1628640"/>
            <a:ext cx="237672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454640" y="162864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427640" y="1628640"/>
            <a:ext cx="2519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24000" y="2637000"/>
            <a:ext cx="201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OCCUPATION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IP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289320" y="3255840"/>
            <a:ext cx="201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:Capa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M:distance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icket mach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:distance to ex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:destination z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: distance to P&amp;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11680" y="3141720"/>
            <a:ext cx="3387600" cy="1079280"/>
            <a:chOff x="5611680" y="3141720"/>
            <a:chExt cx="3387600" cy="1079280"/>
          </a:xfrm>
        </p:grpSpPr>
        <p:sp>
          <p:nvSpPr>
            <p:cNvPr id="560" name=""/>
            <p:cNvSpPr/>
            <p:nvPr/>
          </p:nvSpPr>
          <p:spPr>
            <a:xfrm>
              <a:off x="5651280" y="3141720"/>
              <a:ext cx="3348000" cy="9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61" name=""/>
            <p:cNvGraphicFramePr/>
            <p:nvPr/>
          </p:nvGraphicFramePr>
          <p:xfrm>
            <a:off x="5611680" y="3147840"/>
            <a:ext cx="3352680" cy="10731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5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11680" y="3147840"/>
                      <a:ext cx="3352680" cy="107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3" name=""/>
          <p:cNvSpPr/>
          <p:nvPr/>
        </p:nvSpPr>
        <p:spPr>
          <a:xfrm>
            <a:off x="3879720" y="2276640"/>
            <a:ext cx="1152720" cy="865080"/>
          </a:xfrm>
          <a:prstGeom prst="rect">
            <a:avLst/>
          </a:prstGeom>
          <a:gradFill rotWithShape="0">
            <a:gsLst>
              <a:gs pos="0">
                <a:srgbClr val="fe8f73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earch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pee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alcu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050920" y="4365720"/>
            <a:ext cx="5041800" cy="444240"/>
            <a:chOff x="2050920" y="4365720"/>
            <a:chExt cx="5041800" cy="444240"/>
          </a:xfrm>
        </p:grpSpPr>
        <p:sp>
          <p:nvSpPr>
            <p:cNvPr id="565" name=""/>
            <p:cNvSpPr/>
            <p:nvPr/>
          </p:nvSpPr>
          <p:spPr>
            <a:xfrm>
              <a:off x="2062440" y="4376520"/>
              <a:ext cx="503028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66" name=""/>
            <p:cNvGraphicFramePr/>
            <p:nvPr/>
          </p:nvGraphicFramePr>
          <p:xfrm>
            <a:off x="2050920" y="4365720"/>
            <a:ext cx="4976280" cy="44424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50920" y="4365720"/>
                      <a:ext cx="497628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8" name=""/>
          <p:cNvSpPr/>
          <p:nvPr/>
        </p:nvSpPr>
        <p:spPr>
          <a:xfrm>
            <a:off x="179280" y="4869000"/>
            <a:ext cx="2016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:Capa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M:distance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icket mach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:distance to ex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:destination z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: distance to P&amp;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Garamond"/>
              </a:rPr>
              <a:t>β</a:t>
            </a: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calibration coeffic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79280" y="4941720"/>
            <a:ext cx="4824360" cy="1297080"/>
            <a:chOff x="179280" y="4941720"/>
            <a:chExt cx="4824360" cy="1297080"/>
          </a:xfrm>
        </p:grpSpPr>
        <p:sp>
          <p:nvSpPr>
            <p:cNvPr id="570" name=""/>
            <p:cNvSpPr/>
            <p:nvPr/>
          </p:nvSpPr>
          <p:spPr>
            <a:xfrm>
              <a:off x="2052360" y="4941720"/>
              <a:ext cx="1079640" cy="50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eda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3399"/>
                  </a:solidFill>
                  <a:latin typeface="Garamond"/>
                </a:rPr>
                <a:t>Park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Garamond"/>
                </a:rPr>
                <a:t>dem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9280" y="5734080"/>
              <a:ext cx="107964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eda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3399"/>
                  </a:solidFill>
                  <a:latin typeface="Garamond"/>
                </a:rPr>
                <a:t>ISLE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04720" y="5734080"/>
              <a:ext cx="107964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eda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3399"/>
                  </a:solidFill>
                  <a:latin typeface="Garamond"/>
                </a:rPr>
                <a:t>ISLE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700360" y="5734080"/>
              <a:ext cx="107928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eda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3399"/>
                  </a:solidFill>
                  <a:latin typeface="Garamond"/>
                </a:rPr>
                <a:t>ISLE 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924360" y="5734080"/>
              <a:ext cx="107928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eda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3399"/>
                  </a:solidFill>
                  <a:latin typeface="Garamond"/>
                </a:rPr>
                <a:t>ISLE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683640" y="5446800"/>
              <a:ext cx="180036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979640" y="5446800"/>
              <a:ext cx="50472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84360" y="5446800"/>
              <a:ext cx="71928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484360" y="5446800"/>
              <a:ext cx="194292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851280" y="3933720"/>
            <a:ext cx="1152360" cy="1511280"/>
            <a:chOff x="3851280" y="3933720"/>
            <a:chExt cx="1152360" cy="1511280"/>
          </a:xfrm>
        </p:grpSpPr>
        <p:sp>
          <p:nvSpPr>
            <p:cNvPr id="580" name=""/>
            <p:cNvSpPr/>
            <p:nvPr/>
          </p:nvSpPr>
          <p:spPr>
            <a:xfrm>
              <a:off x="4457880" y="3933720"/>
              <a:ext cx="0" cy="649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851280" y="4579920"/>
              <a:ext cx="1152360" cy="865080"/>
            </a:xfrm>
            <a:prstGeom prst="rect">
              <a:avLst/>
            </a:prstGeom>
            <a:gradFill rotWithShape="0">
              <a:gsLst>
                <a:gs pos="0">
                  <a:srgbClr val="fe8f73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Tsearc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3865680" y="3429000"/>
            <a:ext cx="1152360" cy="865080"/>
          </a:xfrm>
          <a:prstGeom prst="rect">
            <a:avLst/>
          </a:prstGeom>
          <a:gradFill rotWithShape="0">
            <a:gsLst>
              <a:gs pos="0">
                <a:srgbClr val="fe8f73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Assig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324000" y="5732640"/>
            <a:ext cx="3671640" cy="504720"/>
            <a:chOff x="324000" y="5732640"/>
            <a:chExt cx="3671640" cy="504720"/>
          </a:xfrm>
        </p:grpSpPr>
        <p:sp>
          <p:nvSpPr>
            <p:cNvPr id="584" name=""/>
            <p:cNvSpPr/>
            <p:nvPr/>
          </p:nvSpPr>
          <p:spPr>
            <a:xfrm>
              <a:off x="324000" y="5732640"/>
              <a:ext cx="367164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85" name=""/>
            <p:cNvGraphicFramePr/>
            <p:nvPr/>
          </p:nvGraphicFramePr>
          <p:xfrm>
            <a:off x="324000" y="5732640"/>
            <a:ext cx="3671640" cy="504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4000" y="5732640"/>
                      <a:ext cx="367164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87" name=""/>
          <p:cNvSpPr/>
          <p:nvPr/>
        </p:nvSpPr>
        <p:spPr>
          <a:xfrm flipH="1">
            <a:off x="2050560" y="5445000"/>
            <a:ext cx="180036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003640" y="5445000"/>
            <a:ext cx="18734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0E3FB-0D81-4D8B-9681-8E39534F7E29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F5233-77AD-40AB-B418-8B723590CD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ngine warm up model (EWUM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50920" y="1197000"/>
            <a:ext cx="8063640" cy="5025960"/>
            <a:chOff x="250920" y="1197000"/>
            <a:chExt cx="8063640" cy="5025960"/>
          </a:xfrm>
        </p:grpSpPr>
        <p:grpSp>
          <p:nvGrpSpPr>
            <p:cNvPr id="591" name=""/>
            <p:cNvGrpSpPr/>
            <p:nvPr/>
          </p:nvGrpSpPr>
          <p:grpSpPr>
            <a:xfrm>
              <a:off x="6942240" y="2198520"/>
              <a:ext cx="1372320" cy="901440"/>
              <a:chOff x="6942240" y="2198520"/>
              <a:chExt cx="1372320" cy="901440"/>
            </a:xfrm>
          </p:grpSpPr>
          <p:sp>
            <p:nvSpPr>
              <p:cNvPr id="592" name=""/>
              <p:cNvSpPr/>
              <p:nvPr/>
            </p:nvSpPr>
            <p:spPr>
              <a:xfrm>
                <a:off x="7199640" y="2198520"/>
                <a:ext cx="1114920" cy="90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Times New Roman"/>
                  </a:rPr>
                  <a:t>ACCELERAZION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Times New Roman"/>
                  </a:rPr>
                  <a:t>RESISTENZA AERO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Times New Roman"/>
                  </a:rPr>
                  <a:t>RESISTENZE AL 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Times New Roman"/>
                  </a:rPr>
                  <a:t>MOTO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Times New Roman"/>
                  </a:rPr>
                  <a:t>PENDENZA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199640" y="2337480"/>
                <a:ext cx="1440" cy="622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942240" y="2684160"/>
                <a:ext cx="25740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250920" y="1197000"/>
              <a:ext cx="1458720" cy="6238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CONSUM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(OUTPUT DEL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TEE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909880" y="3741840"/>
              <a:ext cx="1459080" cy="6253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PERDITE DI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CALORE</a:t>
              </a: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3160" y="2354400"/>
              <a:ext cx="1459080" cy="7934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PRODUZIO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ENERGI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567160" y="1662120"/>
              <a:ext cx="2144520" cy="13003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MODELL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MOTO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50920" y="2354400"/>
              <a:ext cx="1458720" cy="6238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MODELLO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COMBUSTIO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881360" y="2492280"/>
              <a:ext cx="426960" cy="279360"/>
            </a:xfrm>
            <a:custGeom>
              <a:avLst/>
              <a:gdLst>
                <a:gd name="textAreaLeft" fmla="*/ 66600 w 426960"/>
                <a:gd name="textAreaRight" fmla="*/ 373680 w 426960"/>
                <a:gd name="textAreaTop" fmla="*/ 69840 h 279360"/>
                <a:gd name="textAreaBottom" fmla="*/ 20952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262240" y="4856040"/>
              <a:ext cx="2644560" cy="13669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Times New Roman"/>
                </a:rPr>
                <a:t>CATALIZZATORE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481720" y="3741840"/>
              <a:ext cx="1458720" cy="6253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COOLA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MODE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84840" y="2492280"/>
              <a:ext cx="426960" cy="279360"/>
            </a:xfrm>
            <a:custGeom>
              <a:avLst/>
              <a:gdLst>
                <a:gd name="textAreaLeft" fmla="*/ 66600 w 426960"/>
                <a:gd name="textAreaRight" fmla="*/ 373680 w 426960"/>
                <a:gd name="textAreaTop" fmla="*/ 69840 h 279360"/>
                <a:gd name="textAreaBottom" fmla="*/ 20952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862520" y="3881520"/>
              <a:ext cx="428760" cy="276120"/>
            </a:xfrm>
            <a:custGeom>
              <a:avLst/>
              <a:gdLst>
                <a:gd name="textAreaLeft" fmla="*/ 66960 w 428760"/>
                <a:gd name="textAreaRight" fmla="*/ 375480 w 428760"/>
                <a:gd name="textAreaTop" fmla="*/ 69120 h 276120"/>
                <a:gd name="textAreaBottom" fmla="*/ 207360 h 2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83280" y="4573440"/>
              <a:ext cx="343080" cy="346320"/>
            </a:xfrm>
            <a:prstGeom prst="upDownArrow">
              <a:avLst>
                <a:gd name="adj1" fmla="val 50000"/>
                <a:gd name="adj2" fmla="val 2009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481720" y="5059440"/>
              <a:ext cx="1458720" cy="6253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RADIATO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1881360" y="3881520"/>
              <a:ext cx="426960" cy="276120"/>
            </a:xfrm>
            <a:custGeom>
              <a:avLst/>
              <a:gdLst>
                <a:gd name="textAreaLeft" fmla="*/ 66960 w 426960"/>
                <a:gd name="textAreaRight" fmla="*/ 374040 w 426960"/>
                <a:gd name="textAreaTop" fmla="*/ 69120 h 276120"/>
                <a:gd name="textAreaBottom" fmla="*/ 207360 h 2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0920" y="3741840"/>
              <a:ext cx="1458720" cy="6253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SCAMBIO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DI CALO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CON L’AMBIEN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5760" y="3324240"/>
              <a:ext cx="341280" cy="279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425760" y="4503600"/>
              <a:ext cx="341280" cy="279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00280" y="1917720"/>
              <a:ext cx="366480" cy="371520"/>
            </a:xfrm>
            <a:prstGeom prst="downArrow">
              <a:avLst>
                <a:gd name="adj1" fmla="val 50000"/>
                <a:gd name="adj2" fmla="val 25344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B17F3-C0D5-4719-9C73-2A71D70AC5B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25A87-E743-4DA7-803F-910701A941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olant</a:t>
            </a:r>
            <a:r>
              <a:rPr b="1" lang="it-IT" sz="4400" spc="-1" strike="noStrike">
                <a:solidFill>
                  <a:srgbClr val="e5e5ff"/>
                </a:solidFill>
                <a:latin typeface="Garamond"/>
              </a:rPr>
              <a:t> Mod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966960" y="3294000"/>
            <a:ext cx="7753320" cy="3606120"/>
            <a:chOff x="966960" y="3294000"/>
            <a:chExt cx="7753320" cy="3606120"/>
          </a:xfrm>
        </p:grpSpPr>
        <p:sp>
          <p:nvSpPr>
            <p:cNvPr id="614" name=""/>
            <p:cNvSpPr/>
            <p:nvPr/>
          </p:nvSpPr>
          <p:spPr>
            <a:xfrm>
              <a:off x="6313320" y="3294000"/>
              <a:ext cx="240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Garamond"/>
                </a:rPr>
                <a:t>Exhaust T ex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966960" y="3413520"/>
              <a:ext cx="7110360" cy="2723040"/>
              <a:chOff x="966960" y="3413520"/>
              <a:chExt cx="7110360" cy="2723040"/>
            </a:xfrm>
          </p:grpSpPr>
          <p:sp>
            <p:nvSpPr>
              <p:cNvPr id="616" name=""/>
              <p:cNvSpPr/>
              <p:nvPr/>
            </p:nvSpPr>
            <p:spPr>
              <a:xfrm>
                <a:off x="3457800" y="3413520"/>
                <a:ext cx="2339640" cy="1239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Garamond"/>
                  </a:rPr>
                  <a:t>Engine Bloc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Garamond"/>
                  </a:rPr>
                  <a:t>T eng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698920" y="3910320"/>
                <a:ext cx="552240" cy="246600"/>
              </a:xfrm>
              <a:custGeom>
                <a:avLst/>
                <a:gdLst>
                  <a:gd name="textAreaLeft" fmla="*/ 0 w 552240"/>
                  <a:gd name="textAreaRight" fmla="*/ 552600 w 552240"/>
                  <a:gd name="textAreaTop" fmla="*/ 0 h 246600"/>
                  <a:gd name="textAreaBottom" fmla="*/ 246960 h 24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004080" y="3413520"/>
                <a:ext cx="550800" cy="246600"/>
              </a:xfrm>
              <a:custGeom>
                <a:avLst/>
                <a:gdLst>
                  <a:gd name="textAreaLeft" fmla="*/ 0 w 550800"/>
                  <a:gd name="textAreaRight" fmla="*/ 551160 w 550800"/>
                  <a:gd name="textAreaTop" fmla="*/ 0 h 246600"/>
                  <a:gd name="textAreaBottom" fmla="*/ 246960 h 24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004080" y="4322520"/>
                <a:ext cx="550800" cy="246600"/>
              </a:xfrm>
              <a:custGeom>
                <a:avLst/>
                <a:gdLst>
                  <a:gd name="textAreaLeft" fmla="*/ 0 w 550800"/>
                  <a:gd name="textAreaRight" fmla="*/ 551160 w 550800"/>
                  <a:gd name="textAreaTop" fmla="*/ 0 h 246600"/>
                  <a:gd name="textAreaBottom" fmla="*/ 246960 h 24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774960" y="4653000"/>
                <a:ext cx="1722600" cy="10724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594240" y="4653000"/>
                <a:ext cx="2066760" cy="90540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732120" y="5266080"/>
                <a:ext cx="1789200" cy="459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Garamond"/>
                  </a:rPr>
                  <a:t>Radiator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3732120" y="4652640"/>
                <a:ext cx="0" cy="825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5521320" y="4652640"/>
                <a:ext cx="0" cy="825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3664080" y="4816440"/>
                <a:ext cx="0" cy="331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5591160" y="4816440"/>
                <a:ext cx="0" cy="331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4627440" y="58064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966960" y="3611160"/>
                <a:ext cx="1306440" cy="11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ffffff"/>
                    </a:solidFill>
                    <a:latin typeface="Garamond"/>
                  </a:rPr>
                  <a:t>Air e Fue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ffffff"/>
                    </a:solidFill>
                    <a:latin typeface="Garamond"/>
                  </a:rPr>
                  <a:t>M</a:t>
                </a:r>
                <a:r>
                  <a:rPr b="1" lang="it-IT" sz="1000" spc="-1" strike="noStrike">
                    <a:solidFill>
                      <a:srgbClr val="ffffff"/>
                    </a:solidFill>
                    <a:latin typeface="Garamond"/>
                  </a:rPr>
                  <a:t>air</a:t>
                </a:r>
                <a:r>
                  <a:rPr b="1" lang="it-IT" sz="1200" spc="-1" strike="noStrike">
                    <a:solidFill>
                      <a:srgbClr val="ffffff"/>
                    </a:solidFill>
                    <a:latin typeface="Garamond"/>
                  </a:rPr>
                  <a:t> </a:t>
                </a:r>
                <a:r>
                  <a:rPr b="1" lang="it-IT" sz="1800" spc="-1" strike="noStrike">
                    <a:solidFill>
                      <a:srgbClr val="ffffff"/>
                    </a:solidFill>
                    <a:latin typeface="Garamond"/>
                  </a:rPr>
                  <a:t>&amp; M </a:t>
                </a:r>
                <a:r>
                  <a:rPr b="1" lang="it-IT" sz="1000" spc="-1" strike="noStrike">
                    <a:solidFill>
                      <a:srgbClr val="ffffff"/>
                    </a:solidFill>
                    <a:latin typeface="Garamond"/>
                  </a:rPr>
                  <a:t>fue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015240" y="4202640"/>
                <a:ext cx="206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Garamond"/>
                  </a:rPr>
                  <a:t>Pow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2480" y="4698360"/>
                <a:ext cx="194940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ffffff"/>
                    </a:solidFill>
                    <a:latin typeface="Garamond"/>
                  </a:rPr>
                  <a:t>Coolant-ou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ffffff"/>
                    </a:solidFill>
                    <a:latin typeface="Garamond"/>
                  </a:rPr>
                  <a:t>T ou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014560" y="4656600"/>
                <a:ext cx="195912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ffffff"/>
                    </a:solidFill>
                    <a:latin typeface="Garamond"/>
                  </a:rPr>
                  <a:t>Coolant-i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ffffff"/>
                    </a:solidFill>
                    <a:latin typeface="Garamond"/>
                  </a:rPr>
                  <a:t>T i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4114800" y="6114600"/>
              <a:ext cx="1143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T ai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539640" y="1657440"/>
            <a:ext cx="8280360" cy="18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olant temperature inlet and outlet of radi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rmostat opening: coolant flow 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eat transfer in the radi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3BA23-2AA0-48F0-8321-301C81D5CEB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C72FE-9914-45BB-8399-017545845E2C}" type="datetime1">
              <a:rPr lang="en-US"/>
              <a:t>07/31/26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olant Temp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5" name=""/>
          <p:cNvSpPr/>
          <p:nvPr/>
        </p:nvSpPr>
        <p:spPr>
          <a:xfrm>
            <a:off x="4112280" y="6095880"/>
            <a:ext cx="1329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(sec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-1262880" y="3498840"/>
            <a:ext cx="368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olant temperature (°K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989280" y="556884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2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010160" y="533880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3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010160" y="505944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3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010160" y="479916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3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010160" y="453708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3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010160" y="427680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3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010160" y="399744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3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010160" y="373680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33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010160" y="347508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3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010160" y="319716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34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010160" y="293544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34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010160" y="267480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35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010160" y="241308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35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010160" y="213516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36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010160" y="187308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36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343160" y="1925640"/>
            <a:ext cx="7191360" cy="3726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343160" y="1925640"/>
            <a:ext cx="7191360" cy="3726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343160" y="1925640"/>
            <a:ext cx="1440" cy="372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309680" y="5651640"/>
            <a:ext cx="33480" cy="14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309680" y="5391000"/>
            <a:ext cx="334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309680" y="5111640"/>
            <a:ext cx="334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309680" y="4851360"/>
            <a:ext cx="334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309680" y="4589640"/>
            <a:ext cx="334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309680" y="4329000"/>
            <a:ext cx="334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309680" y="4049640"/>
            <a:ext cx="334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09680" y="3789360"/>
            <a:ext cx="334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09680" y="3527280"/>
            <a:ext cx="334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09680" y="3249720"/>
            <a:ext cx="334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309680" y="2987640"/>
            <a:ext cx="334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09680" y="2727360"/>
            <a:ext cx="334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309680" y="2465280"/>
            <a:ext cx="334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09680" y="2187720"/>
            <a:ext cx="334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09680" y="1925640"/>
            <a:ext cx="334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343160" y="5651640"/>
            <a:ext cx="719136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1343160" y="5651280"/>
            <a:ext cx="1440" cy="349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144880" y="5651280"/>
            <a:ext cx="1440" cy="3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2944800" y="5651280"/>
            <a:ext cx="1440" cy="3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3746520" y="5651280"/>
            <a:ext cx="1440" cy="3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4546440" y="5651280"/>
            <a:ext cx="1800" cy="3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5330880" y="5651280"/>
            <a:ext cx="1440" cy="3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130800" y="5651280"/>
            <a:ext cx="3240" cy="3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6932520" y="5651280"/>
            <a:ext cx="1800" cy="3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7732800" y="5651280"/>
            <a:ext cx="3240" cy="3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8534520" y="5651280"/>
            <a:ext cx="1440" cy="3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343160" y="5633640"/>
            <a:ext cx="1440" cy="176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343160" y="563400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360440" y="5634000"/>
            <a:ext cx="1800" cy="18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360440" y="56167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374840" y="561672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4840" y="561672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392120" y="5599080"/>
            <a:ext cx="180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392120" y="559908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407960" y="559908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407960" y="5581800"/>
            <a:ext cx="176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425600" y="558180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425600" y="558180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441440" y="556416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441440" y="556416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455840" y="556416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455840" y="5546880"/>
            <a:ext cx="1728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473120" y="554688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473120" y="554688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490760" y="552924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490760" y="552924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06600" y="552924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506600" y="5511960"/>
            <a:ext cx="1728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523880" y="551196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523880" y="551196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538280" y="549432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538280" y="549432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555920" y="549432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555920" y="547704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571760" y="547704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571760" y="547704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589040" y="5459400"/>
            <a:ext cx="180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89040" y="545940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04880" y="545940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604880" y="54421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619280" y="544212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619280" y="544212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636560" y="5424480"/>
            <a:ext cx="180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36560" y="542448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654200" y="542448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654200" y="540720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670040" y="540720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670040" y="5391000"/>
            <a:ext cx="17640" cy="1620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10"/>
                </a:moveTo>
                <a:lnTo>
                  <a:pt x="0" y="1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687680" y="5373720"/>
            <a:ext cx="1440" cy="1728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687680" y="5356080"/>
            <a:ext cx="14040" cy="176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1701720" y="5338800"/>
            <a:ext cx="1800" cy="1728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701720" y="533880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701720" y="5321160"/>
            <a:ext cx="176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11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719360" y="5303880"/>
            <a:ext cx="1440" cy="1728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719360" y="528624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735200" y="528624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735200" y="5268960"/>
            <a:ext cx="1728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752480" y="526896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52480" y="525132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768320" y="525132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768320" y="523404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11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1782720" y="5216040"/>
            <a:ext cx="3240" cy="176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782720" y="521640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800360" y="519912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00360" y="519912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17640" y="5181480"/>
            <a:ext cx="180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817640" y="518148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1833480" y="5164200"/>
            <a:ext cx="1800" cy="1728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33480" y="5146560"/>
            <a:ext cx="176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51120" y="514656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51120" y="512928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65160" y="512928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865160" y="5111640"/>
            <a:ext cx="176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882800" y="511164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882800" y="509436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98640" y="509436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898640" y="5076720"/>
            <a:ext cx="176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11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1916280" y="5059440"/>
            <a:ext cx="1440" cy="1728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916280" y="505944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932120" y="504180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932120" y="5041800"/>
            <a:ext cx="1404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946160" y="5024520"/>
            <a:ext cx="32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946160" y="502452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1963800" y="5006520"/>
            <a:ext cx="1440" cy="176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963800" y="4989600"/>
            <a:ext cx="1728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981080" y="498960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81080" y="49719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996920" y="497196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996920" y="495468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011320" y="495468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011320" y="4937040"/>
            <a:ext cx="176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11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2028960" y="4919760"/>
            <a:ext cx="1440" cy="1728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028960" y="491976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046240" y="4902120"/>
            <a:ext cx="180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46240" y="490212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062080" y="4884840"/>
            <a:ext cx="180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62080" y="488484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62080" y="4869000"/>
            <a:ext cx="176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1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79720" y="486900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79720" y="4851360"/>
            <a:ext cx="14040" cy="176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093760" y="485136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093760" y="4851360"/>
            <a:ext cx="1620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109960" y="4851360"/>
            <a:ext cx="288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109960" y="4834080"/>
            <a:ext cx="1728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127240" y="483408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127240" y="483408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144880" y="481644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144880" y="481644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160720" y="479916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60720" y="4799160"/>
            <a:ext cx="1404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174760" y="4781520"/>
            <a:ext cx="32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174760" y="478152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192400" y="476424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192400" y="476424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746600"/>
            <a:ext cx="180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209680" y="474660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225520" y="4729320"/>
            <a:ext cx="180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225520" y="472932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243160" y="471168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243160" y="471168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257560" y="469440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257560" y="469440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273400" y="4676760"/>
            <a:ext cx="32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273400" y="467676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90680" y="4659480"/>
            <a:ext cx="180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290680" y="465948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308320" y="464184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308320" y="464184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324160" y="462456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324160" y="462456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338560" y="4606920"/>
            <a:ext cx="288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338560" y="460692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355840" y="458964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355840" y="458964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373480" y="458964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373480" y="457200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389320" y="457200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389320" y="4554360"/>
            <a:ext cx="1728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406600" y="455436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406600" y="453708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421000" y="453708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421000" y="451944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421000" y="451944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436840" y="4502160"/>
            <a:ext cx="32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436840" y="450216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454120" y="4484520"/>
            <a:ext cx="180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454120" y="448452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471760" y="448452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471760" y="446724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487600" y="446724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487600" y="4449600"/>
            <a:ext cx="14400" cy="176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502000" y="444960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502000" y="4432320"/>
            <a:ext cx="1728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519280" y="443232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519280" y="4414680"/>
            <a:ext cx="176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536920" y="441468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536920" y="441468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552760" y="439740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552760" y="439740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570040" y="4379760"/>
            <a:ext cx="180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570040" y="4379760"/>
            <a:ext cx="1440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584440" y="4363920"/>
            <a:ext cx="1440" cy="15840"/>
          </a:xfrm>
          <a:custGeom>
            <a:avLst/>
            <a:gdLst/>
            <a:ahLst/>
            <a:rect l="l" t="t" r="r" b="b"/>
            <a:pathLst>
              <a:path w="0" h="10">
                <a:moveTo>
                  <a:pt x="0" y="1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584440" y="436392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600280" y="4346640"/>
            <a:ext cx="32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600280" y="434664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617920" y="434664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617920" y="4329000"/>
            <a:ext cx="1728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635200" y="432900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635200" y="431172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651040" y="431172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651040" y="431172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665440" y="4294080"/>
            <a:ext cx="32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665440" y="429408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682720" y="4276800"/>
            <a:ext cx="180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682720" y="427680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700360" y="425916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700360" y="425916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716200" y="425916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716200" y="424188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730600" y="424188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730600" y="4224240"/>
            <a:ext cx="1728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747880" y="422424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47880" y="422424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763720" y="4206960"/>
            <a:ext cx="32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763720" y="420696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781360" y="418932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781360" y="418932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781360" y="418932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797200" y="4172040"/>
            <a:ext cx="32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797200" y="4172040"/>
            <a:ext cx="1584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13040" y="415440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13040" y="415440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828880" y="415440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828880" y="4137120"/>
            <a:ext cx="176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846520" y="413712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846520" y="411948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62360" y="411948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862360" y="411948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879640" y="4102200"/>
            <a:ext cx="180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879640" y="410220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894040" y="410220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894040" y="4084560"/>
            <a:ext cx="1728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911320" y="408456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911320" y="4067280"/>
            <a:ext cx="1620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927520" y="406728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927520" y="406728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944800" y="404964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944800" y="404964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960640" y="404964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960640" y="4032360"/>
            <a:ext cx="158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976480" y="403236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976480" y="401472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992320" y="401472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992320" y="401472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009960" y="399744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009960" y="399744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025800" y="399744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025800" y="3979800"/>
            <a:ext cx="1728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043080" y="397980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043080" y="39625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057480" y="396252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057480" y="396252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075120" y="394488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075120" y="394488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090960" y="394488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090960" y="3927600"/>
            <a:ext cx="1728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108240" y="392760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108240" y="392760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124080" y="3909960"/>
            <a:ext cx="180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3909960"/>
            <a:ext cx="1584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139920" y="3892680"/>
            <a:ext cx="180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139920" y="389268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39920" y="3892680"/>
            <a:ext cx="1620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156120" y="387504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156120" y="387504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173400" y="387504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173400" y="385920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1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189240" y="385920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189240" y="385920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206880" y="384192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206880" y="3841920"/>
            <a:ext cx="1404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220920" y="384192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220920" y="3824280"/>
            <a:ext cx="176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238560" y="382428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238560" y="382428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254400" y="380700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254400" y="380700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271680" y="380700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271680" y="3789360"/>
            <a:ext cx="1620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287880" y="378936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287880" y="3789360"/>
            <a:ext cx="1584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303720" y="377208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303720" y="377208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319560" y="377208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319560" y="3754440"/>
            <a:ext cx="1728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336840" y="375444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336840" y="375444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352680" y="3736800"/>
            <a:ext cx="180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352680" y="373680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370320" y="373680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370320" y="37195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384720" y="371952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384720" y="371952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402000" y="370188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402000" y="370188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417840" y="370188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417840" y="3684600"/>
            <a:ext cx="176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435480" y="368460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435480" y="368460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451320" y="366696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451320" y="3666960"/>
            <a:ext cx="1584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467160" y="366696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467160" y="36496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483000" y="364968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483000" y="364968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500280" y="3632040"/>
            <a:ext cx="180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500280" y="363204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500280" y="3632040"/>
            <a:ext cx="1620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516480" y="361476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516480" y="3614760"/>
            <a:ext cx="1584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532320" y="361476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532320" y="359712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548160" y="359712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548160" y="359712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565440" y="3579840"/>
            <a:ext cx="180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565440" y="357984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581280" y="357984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581280" y="3562200"/>
            <a:ext cx="176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598920" y="356220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598920" y="3562200"/>
            <a:ext cx="1440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613320" y="356220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613320" y="3544920"/>
            <a:ext cx="1728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30600" y="354492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630600" y="354492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646440" y="3527280"/>
            <a:ext cx="180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646440" y="352728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664080" y="352728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664080" y="351000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679920" y="351000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679920" y="3510000"/>
            <a:ext cx="1584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695760" y="349236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695760" y="349236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711600" y="349236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711600" y="349236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728880" y="3475080"/>
            <a:ext cx="180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728880" y="3475080"/>
            <a:ext cx="1620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745080" y="347508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745080" y="3457440"/>
            <a:ext cx="1728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762360" y="345744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762360" y="3457440"/>
            <a:ext cx="1440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776760" y="344016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76760" y="344016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794040" y="344016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794040" y="342252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809880" y="342252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809880" y="342252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827520" y="342252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827520" y="340524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843360" y="340524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843360" y="3405240"/>
            <a:ext cx="1584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859200" y="338760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859200" y="338760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859200" y="338760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75040" y="338760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875040" y="3370320"/>
            <a:ext cx="176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892680" y="337032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892680" y="337032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908520" y="335268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908520" y="335268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925800" y="335268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925800" y="33368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1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940200" y="333684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940200" y="333684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957480" y="333684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957480" y="3319560"/>
            <a:ext cx="1620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973680" y="331956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973680" y="331956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990960" y="330192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990960" y="330192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006800" y="330192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006800" y="3301920"/>
            <a:ext cx="1584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022640" y="3284640"/>
            <a:ext cx="180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022640" y="328464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038480" y="328464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038480" y="3267000"/>
            <a:ext cx="176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056120" y="326700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056120" y="326700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071960" y="326700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071960" y="3249720"/>
            <a:ext cx="1728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089240" y="324972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089240" y="324972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103640" y="3232080"/>
            <a:ext cx="180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103640" y="323208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119480" y="323208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119480" y="323208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137120" y="321480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137120" y="321480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154400" y="321480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154400" y="31971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170240" y="319716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170240" y="3197160"/>
            <a:ext cx="1440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184640" y="319716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184640" y="3179880"/>
            <a:ext cx="176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202280" y="317988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202280" y="317988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218120" y="3179880"/>
            <a:ext cx="288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218120" y="3162240"/>
            <a:ext cx="288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218120" y="316224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4235400" y="316224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235400" y="314496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249800" y="314496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249800" y="314496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267080" y="314496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267080" y="312732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282920" y="312732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282920" y="312732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300560" y="312732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300560" y="3110040"/>
            <a:ext cx="1728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317840" y="311004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317840" y="311004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332240" y="3092400"/>
            <a:ext cx="180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332240" y="309240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348080" y="309240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348080" y="309240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365720" y="307512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365720" y="307512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381560" y="307512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381560" y="307512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398840" y="3057480"/>
            <a:ext cx="180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398840" y="3057480"/>
            <a:ext cx="1440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413240" y="305748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413240" y="3040200"/>
            <a:ext cx="176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430880" y="304020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4430880" y="304020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446720" y="3040200"/>
            <a:ext cx="288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446720" y="3022560"/>
            <a:ext cx="1728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464000" y="302256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464000" y="302256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481640" y="302256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481640" y="300528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495680" y="300528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495680" y="300528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511520" y="300528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511520" y="2987640"/>
            <a:ext cx="176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529160" y="298764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29160" y="298764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545000" y="298764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45000" y="2970360"/>
            <a:ext cx="176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562640" y="297036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562640" y="2970360"/>
            <a:ext cx="1404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76680" y="2952720"/>
            <a:ext cx="32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576680" y="295272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576680" y="295272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94320" y="295272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594320" y="293544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610160" y="293544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610160" y="293544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627440" y="293544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627440" y="2917800"/>
            <a:ext cx="176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645080" y="291780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645080" y="291780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659480" y="291780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59480" y="290052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675320" y="2900520"/>
            <a:ext cx="288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675320" y="290052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692600" y="290052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692600" y="288288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708440" y="288288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708440" y="288288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726080" y="288288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726080" y="286560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740120" y="286560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740120" y="286560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757760" y="286560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757760" y="28479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773600" y="284796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773600" y="284796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4791240" y="284796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791240" y="2832120"/>
            <a:ext cx="1728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1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808520" y="283212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808520" y="283212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822920" y="283212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822920" y="281448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838760" y="281448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38760" y="281448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856040" y="281448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856040" y="279720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871880" y="279720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871880" y="279720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889520" y="279720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889520" y="2779560"/>
            <a:ext cx="14400" cy="176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903920" y="2779560"/>
            <a:ext cx="288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903920" y="277956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921200" y="277956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921200" y="27622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937040" y="276228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937040" y="276228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937040" y="276228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954680" y="274464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954680" y="2744640"/>
            <a:ext cx="1404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968720" y="274464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968720" y="274464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986360" y="272736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986360" y="272736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5002200" y="272736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002200" y="272736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019840" y="270972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019840" y="270972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035680" y="2709720"/>
            <a:ext cx="288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035680" y="2709720"/>
            <a:ext cx="1584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051520" y="269244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051520" y="269244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067360" y="269244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067360" y="269244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084640" y="269244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084640" y="267480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100480" y="267480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100480" y="267480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118120" y="267480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118120" y="26575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132520" y="265752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132520" y="265752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149800" y="265752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149800" y="263988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165640" y="263988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165640" y="263988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183280" y="263988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183280" y="262260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199120" y="262260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199120" y="2622600"/>
            <a:ext cx="1584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214960" y="262260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214960" y="26049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230800" y="260496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230800" y="260496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248440" y="260496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248440" y="260496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264280" y="2587680"/>
            <a:ext cx="288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264280" y="258768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281560" y="258768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281560" y="258768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295960" y="257004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295960" y="257004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295960" y="257004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313240" y="257004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313240" y="255276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329080" y="255276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329080" y="255276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46720" y="255276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346720" y="255276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362560" y="2535120"/>
            <a:ext cx="32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362560" y="2535120"/>
            <a:ext cx="1584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378400" y="253512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378400" y="253512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394240" y="2517840"/>
            <a:ext cx="180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394240" y="251784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411880" y="251784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411880" y="251784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427720" y="2500200"/>
            <a:ext cx="32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427720" y="250020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445000" y="250020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445000" y="2500200"/>
            <a:ext cx="1440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5459400" y="250020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459400" y="2482920"/>
            <a:ext cx="176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477040" y="248292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477040" y="248292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492880" y="2482920"/>
            <a:ext cx="288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492880" y="2465280"/>
            <a:ext cx="1728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510160" y="246528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510160" y="246528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526000" y="246528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526000" y="2465280"/>
            <a:ext cx="1584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541840" y="2448000"/>
            <a:ext cx="180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541840" y="244800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557680" y="244800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557680" y="244800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575320" y="243036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575320" y="243036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591160" y="243036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591160" y="243036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608800" y="241308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5608800" y="2413080"/>
            <a:ext cx="1404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622840" y="241308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622840" y="241308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5640480" y="241308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640480" y="239544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656320" y="239544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656320" y="239544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656320" y="239544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673600" y="2378160"/>
            <a:ext cx="180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5673600" y="237816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5688000" y="237816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688000" y="237816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705640" y="237816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705640" y="236052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721480" y="236052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721480" y="236052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738760" y="236052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738760" y="234324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754600" y="234324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754600" y="2343240"/>
            <a:ext cx="1584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770440" y="234324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770440" y="234324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786280" y="2327400"/>
            <a:ext cx="1800" cy="15840"/>
          </a:xfrm>
          <a:custGeom>
            <a:avLst/>
            <a:gdLst/>
            <a:ahLst/>
            <a:rect l="l" t="t" r="r" b="b"/>
            <a:pathLst>
              <a:path w="0" h="10">
                <a:moveTo>
                  <a:pt x="0" y="1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786280" y="232740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803920" y="232740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803920" y="232740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819760" y="232740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819760" y="2309760"/>
            <a:ext cx="176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837400" y="230976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837400" y="2309760"/>
            <a:ext cx="1404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5851440" y="230976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5851440" y="2292480"/>
            <a:ext cx="176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869080" y="229248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869080" y="229248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884920" y="229248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884920" y="229248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902200" y="2274840"/>
            <a:ext cx="180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902200" y="227484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919840" y="227484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919840" y="2274840"/>
            <a:ext cx="1440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934240" y="225756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934240" y="225756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950080" y="2257560"/>
            <a:ext cx="288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950080" y="225756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967360" y="225756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967360" y="2239920"/>
            <a:ext cx="176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985000" y="223992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5985000" y="223992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000840" y="223992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000840" y="2239920"/>
            <a:ext cx="1404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014880" y="2222640"/>
            <a:ext cx="32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14880" y="222264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4880" y="222264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032520" y="222264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032520" y="220500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048360" y="220500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048360" y="220500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066000" y="220500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066000" y="220500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083280" y="218772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083280" y="218772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097680" y="2187720"/>
            <a:ext cx="1440" cy="52200"/>
          </a:xfrm>
          <a:custGeom>
            <a:avLst/>
            <a:gdLst/>
            <a:ahLst/>
            <a:rect l="l" t="t" r="r" b="b"/>
            <a:pathLst>
              <a:path w="0" h="33">
                <a:moveTo>
                  <a:pt x="0" y="0"/>
                </a:moveTo>
                <a:lnTo>
                  <a:pt x="0" y="11"/>
                </a:lnTo>
                <a:lnTo>
                  <a:pt x="0" y="33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097680" y="223992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113520" y="2222640"/>
            <a:ext cx="32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113520" y="222264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130800" y="222264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130800" y="222264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148440" y="220500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148440" y="220500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164280" y="220500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164280" y="2205000"/>
            <a:ext cx="1440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178680" y="2205000"/>
            <a:ext cx="288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178680" y="2187720"/>
            <a:ext cx="1728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195960" y="218772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195960" y="2187720"/>
            <a:ext cx="15840" cy="52200"/>
          </a:xfrm>
          <a:custGeom>
            <a:avLst/>
            <a:gdLst/>
            <a:ahLst/>
            <a:rect l="l" t="t" r="r" b="b"/>
            <a:pathLst>
              <a:path w="10" h="33">
                <a:moveTo>
                  <a:pt x="0" y="0"/>
                </a:moveTo>
                <a:lnTo>
                  <a:pt x="0" y="11"/>
                </a:lnTo>
                <a:lnTo>
                  <a:pt x="10" y="33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211800" y="223992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211800" y="2222640"/>
            <a:ext cx="176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229440" y="222264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229440" y="222264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246720" y="222264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246720" y="2205000"/>
            <a:ext cx="14400" cy="176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261120" y="220500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261120" y="220500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276960" y="220500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276960" y="220500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294600" y="218772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294600" y="218772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311880" y="2187720"/>
            <a:ext cx="1440" cy="52200"/>
          </a:xfrm>
          <a:custGeom>
            <a:avLst/>
            <a:gdLst/>
            <a:ahLst/>
            <a:rect l="l" t="t" r="r" b="b"/>
            <a:pathLst>
              <a:path w="0" h="33">
                <a:moveTo>
                  <a:pt x="0" y="0"/>
                </a:moveTo>
                <a:lnTo>
                  <a:pt x="0" y="11"/>
                </a:lnTo>
                <a:lnTo>
                  <a:pt x="0" y="33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311880" y="223992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327720" y="2222640"/>
            <a:ext cx="180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327720" y="222264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342120" y="222264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342120" y="222264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359400" y="2205000"/>
            <a:ext cx="180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359400" y="220500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375240" y="220500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375240" y="220500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375240" y="220500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392880" y="218772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392880" y="218772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410160" y="2187720"/>
            <a:ext cx="1800" cy="52200"/>
          </a:xfrm>
          <a:custGeom>
            <a:avLst/>
            <a:gdLst/>
            <a:ahLst/>
            <a:rect l="l" t="t" r="r" b="b"/>
            <a:pathLst>
              <a:path w="0" h="33">
                <a:moveTo>
                  <a:pt x="0" y="0"/>
                </a:moveTo>
                <a:lnTo>
                  <a:pt x="0" y="11"/>
                </a:lnTo>
                <a:lnTo>
                  <a:pt x="0" y="33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410160" y="2239920"/>
            <a:ext cx="1440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424560" y="2222640"/>
            <a:ext cx="180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424560" y="222264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440400" y="222264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440400" y="222264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458040" y="220500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458040" y="220500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6475320" y="220500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6475320" y="2205000"/>
            <a:ext cx="1440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6489720" y="220500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6489720" y="218772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6505560" y="218772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505560" y="2187720"/>
            <a:ext cx="17640" cy="52200"/>
          </a:xfrm>
          <a:custGeom>
            <a:avLst/>
            <a:gdLst/>
            <a:ahLst/>
            <a:rect l="l" t="t" r="r" b="b"/>
            <a:pathLst>
              <a:path w="10" h="33">
                <a:moveTo>
                  <a:pt x="0" y="0"/>
                </a:moveTo>
                <a:lnTo>
                  <a:pt x="0" y="11"/>
                </a:lnTo>
                <a:lnTo>
                  <a:pt x="10" y="33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6523200" y="223992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523200" y="222264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539040" y="2222640"/>
            <a:ext cx="288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6539040" y="222264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556320" y="222264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556320" y="2205000"/>
            <a:ext cx="14400" cy="176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570720" y="220500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6570720" y="220500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588000" y="220500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88000" y="220500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603840" y="2187720"/>
            <a:ext cx="32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603840" y="218772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621480" y="2187720"/>
            <a:ext cx="1440" cy="52200"/>
          </a:xfrm>
          <a:custGeom>
            <a:avLst/>
            <a:gdLst/>
            <a:ahLst/>
            <a:rect l="l" t="t" r="r" b="b"/>
            <a:pathLst>
              <a:path w="0" h="33">
                <a:moveTo>
                  <a:pt x="0" y="0"/>
                </a:moveTo>
                <a:lnTo>
                  <a:pt x="0" y="11"/>
                </a:lnTo>
                <a:lnTo>
                  <a:pt x="0" y="33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621480" y="223992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638760" y="2222640"/>
            <a:ext cx="180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638760" y="222264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653160" y="222264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6653160" y="222264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669000" y="2205000"/>
            <a:ext cx="32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6669000" y="220500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686640" y="220500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6686640" y="220500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703920" y="220500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703920" y="218772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719760" y="218772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6719760" y="2187720"/>
            <a:ext cx="14400" cy="52200"/>
          </a:xfrm>
          <a:custGeom>
            <a:avLst/>
            <a:gdLst/>
            <a:ahLst/>
            <a:rect l="l" t="t" r="r" b="b"/>
            <a:pathLst>
              <a:path w="9" h="33">
                <a:moveTo>
                  <a:pt x="0" y="0"/>
                </a:moveTo>
                <a:lnTo>
                  <a:pt x="0" y="11"/>
                </a:lnTo>
                <a:lnTo>
                  <a:pt x="9" y="33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6734160" y="223992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734160" y="2222640"/>
            <a:ext cx="32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6734160" y="222264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6751800" y="222264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6751800" y="222264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767640" y="2205000"/>
            <a:ext cx="288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6767640" y="220500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6784920" y="220500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6784920" y="220500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6802560" y="220500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802560" y="218772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816600" y="218772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6816600" y="2187720"/>
            <a:ext cx="15840" cy="52200"/>
          </a:xfrm>
          <a:custGeom>
            <a:avLst/>
            <a:gdLst/>
            <a:ahLst/>
            <a:rect l="l" t="t" r="r" b="b"/>
            <a:pathLst>
              <a:path w="10" h="33">
                <a:moveTo>
                  <a:pt x="0" y="0"/>
                </a:moveTo>
                <a:lnTo>
                  <a:pt x="0" y="11"/>
                </a:lnTo>
                <a:lnTo>
                  <a:pt x="10" y="33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6832440" y="223992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6832440" y="2222640"/>
            <a:ext cx="176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850080" y="222264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850080" y="222264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6867360" y="222264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6867360" y="2205000"/>
            <a:ext cx="1620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6883560" y="220500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6883560" y="2205000"/>
            <a:ext cx="1404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897600" y="220500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897600" y="220500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6915240" y="218772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915240" y="218772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931080" y="2187720"/>
            <a:ext cx="3240" cy="52200"/>
          </a:xfrm>
          <a:custGeom>
            <a:avLst/>
            <a:gdLst/>
            <a:ahLst/>
            <a:rect l="l" t="t" r="r" b="b"/>
            <a:pathLst>
              <a:path w="0" h="33">
                <a:moveTo>
                  <a:pt x="0" y="0"/>
                </a:moveTo>
                <a:lnTo>
                  <a:pt x="0" y="11"/>
                </a:lnTo>
                <a:lnTo>
                  <a:pt x="0" y="33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931080" y="223992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948360" y="2222640"/>
            <a:ext cx="180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6948360" y="222264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6966000" y="222264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966000" y="222264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6980400" y="2205000"/>
            <a:ext cx="14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6980400" y="220500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996240" y="2205000"/>
            <a:ext cx="288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6996240" y="220500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013520" y="220500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7013520" y="2187720"/>
            <a:ext cx="176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7031160" y="218772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31160" y="2187720"/>
            <a:ext cx="15840" cy="52200"/>
          </a:xfrm>
          <a:custGeom>
            <a:avLst/>
            <a:gdLst/>
            <a:ahLst/>
            <a:rect l="l" t="t" r="r" b="b"/>
            <a:pathLst>
              <a:path w="10" h="33">
                <a:moveTo>
                  <a:pt x="0" y="0"/>
                </a:moveTo>
                <a:lnTo>
                  <a:pt x="0" y="11"/>
                </a:lnTo>
                <a:lnTo>
                  <a:pt x="10" y="33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7047000" y="223992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7047000" y="22226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7061040" y="222264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7061040" y="222264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7078680" y="222264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7078680" y="220500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7094520" y="220500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7094520" y="220500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7094520" y="220500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7112160" y="220500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7112160" y="2187720"/>
            <a:ext cx="1728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7129440" y="218772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7129440" y="2187720"/>
            <a:ext cx="14400" cy="52200"/>
          </a:xfrm>
          <a:custGeom>
            <a:avLst/>
            <a:gdLst/>
            <a:ahLst/>
            <a:rect l="l" t="t" r="r" b="b"/>
            <a:pathLst>
              <a:path w="9" h="33">
                <a:moveTo>
                  <a:pt x="0" y="0"/>
                </a:moveTo>
                <a:lnTo>
                  <a:pt x="0" y="11"/>
                </a:lnTo>
                <a:lnTo>
                  <a:pt x="9" y="33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7143840" y="223992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7143840" y="222264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7159680" y="222264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7159680" y="222264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7176960" y="222264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7176960" y="2205000"/>
            <a:ext cx="176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94600" y="220500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7194600" y="2205000"/>
            <a:ext cx="1440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7209000" y="220500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7209000" y="220500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7224840" y="2187720"/>
            <a:ext cx="288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7224840" y="218772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7242120" y="2187720"/>
            <a:ext cx="1800" cy="52200"/>
          </a:xfrm>
          <a:custGeom>
            <a:avLst/>
            <a:gdLst/>
            <a:ahLst/>
            <a:rect l="l" t="t" r="r" b="b"/>
            <a:pathLst>
              <a:path w="0" h="33">
                <a:moveTo>
                  <a:pt x="0" y="0"/>
                </a:moveTo>
                <a:lnTo>
                  <a:pt x="0" y="11"/>
                </a:lnTo>
                <a:lnTo>
                  <a:pt x="0" y="33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7242120" y="223992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257960" y="2222640"/>
            <a:ext cx="32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7257960" y="2222640"/>
            <a:ext cx="176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275600" y="222264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275600" y="2222640"/>
            <a:ext cx="1404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289640" y="2205000"/>
            <a:ext cx="324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7289640" y="220500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307280" y="220500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307280" y="220500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7323120" y="220500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7323120" y="2187720"/>
            <a:ext cx="176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7340760" y="218772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7340760" y="2187720"/>
            <a:ext cx="17280" cy="52200"/>
          </a:xfrm>
          <a:custGeom>
            <a:avLst/>
            <a:gdLst/>
            <a:ahLst/>
            <a:rect l="l" t="t" r="r" b="b"/>
            <a:pathLst>
              <a:path w="10" h="33">
                <a:moveTo>
                  <a:pt x="0" y="0"/>
                </a:moveTo>
                <a:lnTo>
                  <a:pt x="0" y="11"/>
                </a:lnTo>
                <a:lnTo>
                  <a:pt x="10" y="33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7358040" y="223992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7358040" y="222264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372440" y="222264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7372440" y="222264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388280" y="222264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7388280" y="2205000"/>
            <a:ext cx="1728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7405560" y="220500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7405560" y="220500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7421400" y="2205000"/>
            <a:ext cx="32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7421400" y="2205000"/>
            <a:ext cx="176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7439040" y="218772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7439040" y="218772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453440" y="2187720"/>
            <a:ext cx="2880" cy="52200"/>
          </a:xfrm>
          <a:custGeom>
            <a:avLst/>
            <a:gdLst/>
            <a:ahLst/>
            <a:rect l="l" t="t" r="r" b="b"/>
            <a:pathLst>
              <a:path w="0" h="33">
                <a:moveTo>
                  <a:pt x="0" y="0"/>
                </a:moveTo>
                <a:lnTo>
                  <a:pt x="0" y="11"/>
                </a:lnTo>
                <a:lnTo>
                  <a:pt x="0" y="33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453440" y="2239920"/>
            <a:ext cx="288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453440" y="2222640"/>
            <a:ext cx="1728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470720" y="222264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470720" y="222264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486560" y="2222640"/>
            <a:ext cx="32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86560" y="2205000"/>
            <a:ext cx="176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504200" y="220500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504200" y="2205000"/>
            <a:ext cx="1728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521480" y="220500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521480" y="2205000"/>
            <a:ext cx="1440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535880" y="218772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7535880" y="218772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7553160" y="2187720"/>
            <a:ext cx="1800" cy="52200"/>
          </a:xfrm>
          <a:custGeom>
            <a:avLst/>
            <a:gdLst/>
            <a:ahLst/>
            <a:rect l="l" t="t" r="r" b="b"/>
            <a:pathLst>
              <a:path w="0" h="33">
                <a:moveTo>
                  <a:pt x="0" y="0"/>
                </a:moveTo>
                <a:lnTo>
                  <a:pt x="0" y="11"/>
                </a:lnTo>
                <a:lnTo>
                  <a:pt x="0" y="33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7553160" y="2239920"/>
            <a:ext cx="1620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7569360" y="2222640"/>
            <a:ext cx="1440" cy="1728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7569360" y="2222640"/>
            <a:ext cx="1728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586640" y="222264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7586640" y="2222640"/>
            <a:ext cx="158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7602480" y="2205000"/>
            <a:ext cx="180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1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7602480" y="2205000"/>
            <a:ext cx="1584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618320" y="220500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7618320" y="220500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7634160" y="2205000"/>
            <a:ext cx="180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7634160" y="2187720"/>
            <a:ext cx="176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651800" y="2187720"/>
            <a:ext cx="144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7651800" y="2187720"/>
            <a:ext cx="15840" cy="52200"/>
          </a:xfrm>
          <a:custGeom>
            <a:avLst/>
            <a:gdLst/>
            <a:ahLst/>
            <a:rect l="l" t="t" r="r" b="b"/>
            <a:pathLst>
              <a:path w="10" h="33">
                <a:moveTo>
                  <a:pt x="0" y="0"/>
                </a:moveTo>
                <a:lnTo>
                  <a:pt x="0" y="11"/>
                </a:lnTo>
                <a:lnTo>
                  <a:pt x="10" y="33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7667640" y="223992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7667640" y="2222640"/>
            <a:ext cx="1728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7684920" y="222264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684920" y="222264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7699320" y="2222640"/>
            <a:ext cx="1800" cy="144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7699320" y="2205000"/>
            <a:ext cx="176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11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7716960" y="220500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716960" y="2205000"/>
            <a:ext cx="15840" cy="180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a886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732800" y="2205000"/>
            <a:ext cx="1440" cy="1800"/>
          </a:xfrm>
          <a:prstGeom prst="line">
            <a:avLst/>
          </a:prstGeom>
          <a:ln w="284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339920" y="57736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070720" y="577368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870640" y="577368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2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3672360" y="577368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3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472280" y="577368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4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5256720" y="577368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5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6058440" y="577368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6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6858360" y="577368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7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7660080" y="577368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8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8460360" y="577368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mall Fonts"/>
              </a:rPr>
              <a:t>9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C28CA-0531-4246-A8DF-995846B181D3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83505-C914-4CBE-9098-078BADD62A28}" type="datetime1">
              <a:rPr lang="en-US"/>
              <a:t>07/31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talyst Temp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252360" y="1413000"/>
            <a:ext cx="8639280" cy="4433400"/>
            <a:chOff x="252360" y="1413000"/>
            <a:chExt cx="8639280" cy="4433400"/>
          </a:xfrm>
        </p:grpSpPr>
        <p:sp>
          <p:nvSpPr>
            <p:cNvPr id="1493" name=""/>
            <p:cNvSpPr/>
            <p:nvPr/>
          </p:nvSpPr>
          <p:spPr>
            <a:xfrm>
              <a:off x="1177560" y="1482480"/>
              <a:ext cx="7646040" cy="4098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177560" y="1482480"/>
              <a:ext cx="7646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177560" y="1482480"/>
              <a:ext cx="7646040" cy="409896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177560" y="1482480"/>
              <a:ext cx="1440" cy="4098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153080" y="5581440"/>
              <a:ext cx="24480" cy="144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153080" y="5172120"/>
              <a:ext cx="24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153080" y="4761000"/>
              <a:ext cx="24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153080" y="4351680"/>
              <a:ext cx="24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153080" y="3942720"/>
              <a:ext cx="24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153080" y="3531600"/>
              <a:ext cx="24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153080" y="3122280"/>
              <a:ext cx="24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153080" y="2711520"/>
              <a:ext cx="24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153080" y="2302560"/>
              <a:ext cx="24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153080" y="1891080"/>
              <a:ext cx="24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153080" y="1482480"/>
              <a:ext cx="24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177560" y="5581440"/>
              <a:ext cx="7646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1177560" y="5581080"/>
              <a:ext cx="1440" cy="27720"/>
            </a:xfrm>
            <a:prstGeom prst="line">
              <a:avLst/>
            </a:prstGeom>
            <a:ln w="0">
              <a:solidFill>
                <a:srgbClr val="ff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V="1">
              <a:off x="2263680" y="5581080"/>
              <a:ext cx="1440" cy="2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3363840" y="5581080"/>
              <a:ext cx="1440" cy="2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4449960" y="5581080"/>
              <a:ext cx="1440" cy="2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5549760" y="5581080"/>
              <a:ext cx="1440" cy="2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6637680" y="5581080"/>
              <a:ext cx="1800" cy="2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7736040" y="5581080"/>
              <a:ext cx="1440" cy="2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8823960" y="5581080"/>
              <a:ext cx="1440" cy="2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1188000" y="5568120"/>
              <a:ext cx="12240" cy="12960"/>
            </a:xfrm>
            <a:prstGeom prst="line">
              <a:avLst/>
            </a:prstGeom>
            <a:ln w="11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200240" y="5568120"/>
              <a:ext cx="10440" cy="1440"/>
            </a:xfrm>
            <a:prstGeom prst="line">
              <a:avLst/>
            </a:prstGeom>
            <a:ln w="11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210680" y="555516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223280" y="5555160"/>
              <a:ext cx="10080" cy="1440"/>
            </a:xfrm>
            <a:prstGeom prst="line">
              <a:avLst/>
            </a:prstGeom>
            <a:ln w="11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233360" y="5555160"/>
              <a:ext cx="12240" cy="1440"/>
            </a:xfrm>
            <a:prstGeom prst="line">
              <a:avLst/>
            </a:prstGeom>
            <a:ln w="11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245600" y="5540040"/>
              <a:ext cx="10080" cy="147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11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256040" y="5540040"/>
              <a:ext cx="12240" cy="1440"/>
            </a:xfrm>
            <a:prstGeom prst="line">
              <a:avLst/>
            </a:prstGeom>
            <a:ln w="11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268280" y="5540040"/>
              <a:ext cx="12240" cy="1440"/>
            </a:xfrm>
            <a:prstGeom prst="line">
              <a:avLst/>
            </a:prstGeom>
            <a:ln w="11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280520" y="5527080"/>
              <a:ext cx="10440" cy="129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291320" y="5527080"/>
              <a:ext cx="14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291320" y="5527080"/>
              <a:ext cx="1152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303200" y="5513760"/>
              <a:ext cx="10440" cy="129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313640" y="5513760"/>
              <a:ext cx="122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325880" y="5499000"/>
              <a:ext cx="10080" cy="147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336320" y="5499000"/>
              <a:ext cx="122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348560" y="5499000"/>
              <a:ext cx="104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359360" y="5486040"/>
              <a:ext cx="115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371240" y="5486040"/>
              <a:ext cx="122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383480" y="5486040"/>
              <a:ext cx="104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394280" y="547272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406520" y="5472720"/>
              <a:ext cx="1008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416600" y="5457960"/>
              <a:ext cx="12240" cy="14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428840" y="5457960"/>
              <a:ext cx="1008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439280" y="5457960"/>
              <a:ext cx="122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451520" y="5445000"/>
              <a:ext cx="10440" cy="129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462320" y="5445000"/>
              <a:ext cx="122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474560" y="5445000"/>
              <a:ext cx="1152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486440" y="5431680"/>
              <a:ext cx="10440" cy="129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497240" y="5431680"/>
              <a:ext cx="122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509480" y="5431680"/>
              <a:ext cx="1008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519560" y="541872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531800" y="5418720"/>
              <a:ext cx="14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531800" y="5418720"/>
              <a:ext cx="104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542600" y="5403960"/>
              <a:ext cx="11520" cy="14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554480" y="5403960"/>
              <a:ext cx="104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565280" y="5403960"/>
              <a:ext cx="122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577520" y="539064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589760" y="5390640"/>
              <a:ext cx="1008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600200" y="537768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612440" y="5377680"/>
              <a:ext cx="1008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622520" y="5377680"/>
              <a:ext cx="122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634760" y="5362560"/>
              <a:ext cx="10440" cy="147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645560" y="5362560"/>
              <a:ext cx="122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V="1">
              <a:off x="1657800" y="5349600"/>
              <a:ext cx="1008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V="1">
              <a:off x="1668240" y="533628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V="1">
              <a:off x="1680480" y="5321160"/>
              <a:ext cx="1224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1692720" y="5308560"/>
              <a:ext cx="1008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1703160" y="529524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V="1">
              <a:off x="1715400" y="5280120"/>
              <a:ext cx="1044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1725840" y="5267520"/>
              <a:ext cx="1152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1737720" y="5239080"/>
              <a:ext cx="10440" cy="27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1748520" y="522612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1760760" y="5213160"/>
              <a:ext cx="1008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V="1">
              <a:off x="1771200" y="5184720"/>
              <a:ext cx="1800" cy="27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>
              <a:off x="1771200" y="5158800"/>
              <a:ext cx="12240" cy="25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1783440" y="5143680"/>
              <a:ext cx="1224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V="1">
              <a:off x="1795680" y="5131080"/>
              <a:ext cx="1008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1806120" y="511776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>
              <a:off x="1818360" y="5102640"/>
              <a:ext cx="1044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1828800" y="508968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841040" y="5089680"/>
              <a:ext cx="1008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V="1">
              <a:off x="1851480" y="507672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V="1">
              <a:off x="1863720" y="5061600"/>
              <a:ext cx="1008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1874160" y="504864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1886400" y="503568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898640" y="5035680"/>
              <a:ext cx="104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>
              <a:off x="1909440" y="5020560"/>
              <a:ext cx="1152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1921320" y="5007600"/>
              <a:ext cx="104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V="1">
              <a:off x="1931760" y="499464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1944000" y="4979160"/>
              <a:ext cx="1008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954440" y="4979520"/>
              <a:ext cx="122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V="1">
              <a:off x="1966680" y="4966560"/>
              <a:ext cx="104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1977480" y="4953600"/>
              <a:ext cx="1152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V="1">
              <a:off x="1989360" y="494028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2001600" y="4925160"/>
              <a:ext cx="1044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012400" y="4925520"/>
              <a:ext cx="14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2012400" y="491220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2024640" y="4899240"/>
              <a:ext cx="1008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V="1">
              <a:off x="2034720" y="4884120"/>
              <a:ext cx="1224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046960" y="4884480"/>
              <a:ext cx="1008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2057400" y="487116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2069640" y="4858200"/>
              <a:ext cx="104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2080440" y="4843080"/>
              <a:ext cx="1224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2092680" y="4830120"/>
              <a:ext cx="1152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104560" y="4830120"/>
              <a:ext cx="104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V="1">
              <a:off x="2115360" y="481716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V="1">
              <a:off x="2127600" y="4801680"/>
              <a:ext cx="1008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V="1">
              <a:off x="2137680" y="478908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149920" y="4789080"/>
              <a:ext cx="104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V="1">
              <a:off x="2160720" y="4775760"/>
              <a:ext cx="1152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2172600" y="4760640"/>
              <a:ext cx="1044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2183400" y="474804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195640" y="4748040"/>
              <a:ext cx="122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2207880" y="4734720"/>
              <a:ext cx="1008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2218320" y="4719600"/>
              <a:ext cx="1224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2230560" y="4707000"/>
              <a:ext cx="1008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240640" y="4707000"/>
              <a:ext cx="122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2252880" y="4693680"/>
              <a:ext cx="180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2252880" y="4680720"/>
              <a:ext cx="104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263680" y="4680720"/>
              <a:ext cx="122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2275920" y="4665240"/>
              <a:ext cx="1008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V="1">
              <a:off x="2286360" y="465264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V="1">
              <a:off x="2298600" y="463932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310840" y="4639320"/>
              <a:ext cx="1008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2321280" y="4624200"/>
              <a:ext cx="1224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2333520" y="4611600"/>
              <a:ext cx="104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2343960" y="4598280"/>
              <a:ext cx="1152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355840" y="4598280"/>
              <a:ext cx="104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366640" y="4583160"/>
              <a:ext cx="1224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2345760" y="4583520"/>
              <a:ext cx="33120" cy="5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389320" y="4570560"/>
              <a:ext cx="122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2401560" y="455724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2413800" y="4542120"/>
              <a:ext cx="1008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424240" y="4542480"/>
              <a:ext cx="122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V="1">
              <a:off x="2436480" y="4529160"/>
              <a:ext cx="104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2446920" y="451620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2459160" y="4501080"/>
              <a:ext cx="1008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469600" y="4501440"/>
              <a:ext cx="122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2481840" y="4488120"/>
              <a:ext cx="1008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2492280" y="4475160"/>
              <a:ext cx="180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492280" y="4475160"/>
              <a:ext cx="122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2504520" y="446184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2516760" y="4446720"/>
              <a:ext cx="1044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527560" y="4447080"/>
              <a:ext cx="1152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2539440" y="4434120"/>
              <a:ext cx="104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V="1">
              <a:off x="2549880" y="442080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62120" y="4420800"/>
              <a:ext cx="1008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572560" y="4405680"/>
              <a:ext cx="1224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2584800" y="4393080"/>
              <a:ext cx="104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95600" y="4393080"/>
              <a:ext cx="1152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2607480" y="437976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2619720" y="4364640"/>
              <a:ext cx="1044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630520" y="4365000"/>
              <a:ext cx="122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2642760" y="4351680"/>
              <a:ext cx="1008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2652840" y="433872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665080" y="4338720"/>
              <a:ext cx="1008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2675520" y="4323600"/>
              <a:ext cx="1224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2687760" y="4310640"/>
              <a:ext cx="104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698560" y="4310640"/>
              <a:ext cx="122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V="1">
              <a:off x="2710800" y="429768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V="1">
              <a:off x="2723040" y="4282560"/>
              <a:ext cx="1008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733480" y="4282920"/>
              <a:ext cx="14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733480" y="426960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745720" y="4269600"/>
              <a:ext cx="1008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2755800" y="425664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V="1">
              <a:off x="2768040" y="4241160"/>
              <a:ext cx="1044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8840" y="4241520"/>
              <a:ext cx="1152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V="1">
              <a:off x="2790720" y="4228560"/>
              <a:ext cx="104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V="1">
              <a:off x="2801520" y="421524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813760" y="4215240"/>
              <a:ext cx="122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826000" y="4202280"/>
              <a:ext cx="10080" cy="129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836440" y="4202280"/>
              <a:ext cx="1224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V="1">
              <a:off x="2848680" y="4187160"/>
              <a:ext cx="1008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2858760" y="417420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871000" y="4174200"/>
              <a:ext cx="104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881800" y="416124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894040" y="4161240"/>
              <a:ext cx="1008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2904480" y="4146120"/>
              <a:ext cx="1224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2916720" y="4133160"/>
              <a:ext cx="122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928960" y="4133160"/>
              <a:ext cx="1008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939400" y="412020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951640" y="4120200"/>
              <a:ext cx="1044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V="1">
              <a:off x="2962080" y="4104720"/>
              <a:ext cx="12240" cy="1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V="1">
              <a:off x="2974320" y="4092120"/>
              <a:ext cx="1440" cy="1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974320" y="4092120"/>
              <a:ext cx="1008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984760" y="407880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997000" y="4078800"/>
              <a:ext cx="1008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4" name=""/>
            <p:cNvGrpSpPr/>
            <p:nvPr/>
          </p:nvGrpSpPr>
          <p:grpSpPr>
            <a:xfrm>
              <a:off x="3007440" y="2847960"/>
              <a:ext cx="2187720" cy="1230120"/>
              <a:chOff x="3007440" y="2847960"/>
              <a:chExt cx="2187720" cy="1230120"/>
            </a:xfrm>
          </p:grpSpPr>
          <p:sp>
            <p:nvSpPr>
              <p:cNvPr id="1685" name=""/>
              <p:cNvSpPr/>
              <p:nvPr/>
            </p:nvSpPr>
            <p:spPr>
              <a:xfrm flipV="1">
                <a:off x="3007440" y="4063320"/>
                <a:ext cx="12240" cy="14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V="1">
                <a:off x="3019680" y="4050720"/>
                <a:ext cx="12240" cy="12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031920" y="4050720"/>
                <a:ext cx="1008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042000" y="40374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054240" y="403740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V="1">
                <a:off x="3065040" y="4022280"/>
                <a:ext cx="12240" cy="14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V="1">
                <a:off x="3077280" y="4009680"/>
                <a:ext cx="10080" cy="12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087720" y="400968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3099960" y="39963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3110040" y="399636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2640" y="398160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134880" y="3981600"/>
                <a:ext cx="104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3145320" y="3968280"/>
                <a:ext cx="12240" cy="12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3157560" y="3955320"/>
                <a:ext cx="10080" cy="12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3168000" y="395532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3180240" y="39423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90680" y="394236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3202920" y="3927240"/>
                <a:ext cx="1800" cy="1476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202920" y="3927240"/>
                <a:ext cx="104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213720" y="391428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225960" y="3914280"/>
                <a:ext cx="1152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V="1">
                <a:off x="3237840" y="3900960"/>
                <a:ext cx="10440" cy="12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V="1">
                <a:off x="3248280" y="3885840"/>
                <a:ext cx="12240" cy="14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260520" y="3886200"/>
                <a:ext cx="1008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270960" y="387324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83200" y="3873240"/>
                <a:ext cx="1008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293640" y="385992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880" y="385992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316680" y="384516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328920" y="384516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341160" y="383220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351240" y="383220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363480" y="381888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3373920" y="381888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386160" y="3804120"/>
                <a:ext cx="10440" cy="14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396960" y="380412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409200" y="37911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419280" y="379116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V="1">
                <a:off x="3431880" y="3777840"/>
                <a:ext cx="12240" cy="12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V="1">
                <a:off x="3444120" y="3762720"/>
                <a:ext cx="1440" cy="14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444120" y="3763080"/>
                <a:ext cx="1008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454200" y="374976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466440" y="3749760"/>
                <a:ext cx="104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477240" y="373680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489120" y="373680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499920" y="372348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512160" y="372348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522240" y="370872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534840" y="370872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547080" y="36957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557160" y="369576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569400" y="3682440"/>
                <a:ext cx="1044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580200" y="368244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592440" y="3667680"/>
                <a:ext cx="10080" cy="14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602880" y="366768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615120" y="365472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625200" y="365472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637440" y="36414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650040" y="364140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660480" y="3626640"/>
                <a:ext cx="1152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672360" y="3626640"/>
                <a:ext cx="104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683160" y="3626640"/>
                <a:ext cx="14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83160" y="361368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695400" y="361368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705840" y="360036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718080" y="360036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728520" y="3585600"/>
                <a:ext cx="1152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740400" y="358560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753000" y="3572280"/>
                <a:ext cx="1044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763440" y="357228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775680" y="355932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786120" y="355932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798360" y="3544560"/>
                <a:ext cx="10080" cy="14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808800" y="354456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821040" y="3531240"/>
                <a:ext cx="1044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831480" y="353124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844080" y="35182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855960" y="351828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866400" y="350352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878640" y="3503520"/>
                <a:ext cx="1008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889080" y="34902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901320" y="3490200"/>
                <a:ext cx="104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912120" y="3490200"/>
                <a:ext cx="1152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924000" y="3477240"/>
                <a:ext cx="1800" cy="129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924000" y="347724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934440" y="346392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946680" y="346392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959280" y="3449160"/>
                <a:ext cx="10080" cy="14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969360" y="344916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981600" y="343620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992040" y="343620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004280" y="3422880"/>
                <a:ext cx="1044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015080" y="342288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027320" y="3408120"/>
                <a:ext cx="10080" cy="14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037400" y="340812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049640" y="339516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062240" y="339516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072320" y="338184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084560" y="338184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095360" y="3381840"/>
                <a:ext cx="1152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107240" y="3367080"/>
                <a:ext cx="10440" cy="14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118040" y="336708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130280" y="33537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140360" y="335376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152600" y="33408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165200" y="3340800"/>
                <a:ext cx="1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165200" y="3326040"/>
                <a:ext cx="10080" cy="14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175280" y="332604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187520" y="3312720"/>
                <a:ext cx="1044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198320" y="331272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210560" y="331272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4221000" y="329976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233240" y="329976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243320" y="328500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255560" y="328500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267800" y="3271680"/>
                <a:ext cx="1044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278600" y="3271680"/>
                <a:ext cx="1152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290480" y="327168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301280" y="325872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313520" y="325872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323960" y="32454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336200" y="324540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346640" y="3230640"/>
                <a:ext cx="1152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358520" y="323064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370760" y="323064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381560" y="321768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393800" y="321768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404240" y="3204360"/>
                <a:ext cx="1440" cy="129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404240" y="320436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416480" y="320436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426920" y="318960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439160" y="318960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449600" y="317628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461840" y="3176280"/>
                <a:ext cx="1152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73720" y="317628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4520" y="316332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496760" y="316332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507200" y="314856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519440" y="314856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530240" y="3148560"/>
                <a:ext cx="1152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42120" y="3135240"/>
                <a:ext cx="1044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552560" y="313524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564800" y="312228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77040" y="312228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87480" y="312228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599720" y="3107520"/>
                <a:ext cx="10080" cy="14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10160" y="310752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622400" y="3094200"/>
                <a:ext cx="1044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633200" y="309420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645440" y="3094200"/>
                <a:ext cx="1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45440" y="308124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655520" y="308124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667760" y="306648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80000" y="3066480"/>
                <a:ext cx="1008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90440" y="306648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702680" y="3053160"/>
                <a:ext cx="1044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713480" y="3053160"/>
                <a:ext cx="1152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725360" y="305316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736160" y="30402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748400" y="304020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758480" y="304020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770720" y="302508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782960" y="3025080"/>
                <a:ext cx="1008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793400" y="301212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805640" y="301212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816440" y="301212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828680" y="29991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839120" y="299916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851360" y="299916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861440" y="298584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873680" y="298584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885920" y="2985840"/>
                <a:ext cx="180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885920" y="2971080"/>
                <a:ext cx="10440" cy="14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896720" y="2971080"/>
                <a:ext cx="1152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908600" y="2957760"/>
                <a:ext cx="1044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919400" y="295776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931640" y="295776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941720" y="29448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954320" y="294480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964760" y="2944800"/>
                <a:ext cx="1152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976640" y="293004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988880" y="293004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999680" y="293004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5011920" y="291672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022360" y="291672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5034600" y="291672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5044680" y="290376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5057280" y="290376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5067720" y="290376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5079960" y="2889000"/>
                <a:ext cx="1152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5091840" y="288900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5102640" y="288900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114880" y="2875680"/>
                <a:ext cx="1440" cy="129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114880" y="287568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125320" y="287568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137560" y="2862720"/>
                <a:ext cx="1044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148360" y="2862720"/>
                <a:ext cx="1152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160240" y="286272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170680" y="284796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5182920" y="284796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5" name=""/>
            <p:cNvGrpSpPr/>
            <p:nvPr/>
          </p:nvGrpSpPr>
          <p:grpSpPr>
            <a:xfrm>
              <a:off x="5195520" y="2096640"/>
              <a:ext cx="2185560" cy="752400"/>
              <a:chOff x="5195520" y="2096640"/>
              <a:chExt cx="2185560" cy="752400"/>
            </a:xfrm>
          </p:grpSpPr>
          <p:sp>
            <p:nvSpPr>
              <p:cNvPr id="1886" name=""/>
              <p:cNvSpPr/>
              <p:nvPr/>
            </p:nvSpPr>
            <p:spPr>
              <a:xfrm>
                <a:off x="5195520" y="284724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5205600" y="283428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5217840" y="283428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5228280" y="283428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240520" y="2820960"/>
                <a:ext cx="1044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251320" y="282096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263560" y="282096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273640" y="280620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285880" y="280620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298120" y="280620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308560" y="279324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320800" y="279324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331600" y="2793240"/>
                <a:ext cx="1152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343480" y="2779920"/>
                <a:ext cx="1044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354280" y="2779920"/>
                <a:ext cx="1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354280" y="277992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5366520" y="2765160"/>
                <a:ext cx="10080" cy="14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376600" y="276516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388840" y="276516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401080" y="276516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411520" y="27522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423760" y="275220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5434560" y="275220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5446800" y="273888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5456880" y="273888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469480" y="273888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5479560" y="2726280"/>
                <a:ext cx="12240" cy="126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5491800" y="272628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5504040" y="2726280"/>
                <a:ext cx="104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5514840" y="2711160"/>
                <a:ext cx="1224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5527080" y="271116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5537520" y="271116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549760" y="271116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559840" y="269784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572080" y="269784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582880" y="2697840"/>
                <a:ext cx="1152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594760" y="2684880"/>
                <a:ext cx="1800" cy="129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594760" y="268488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607000" y="268488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617800" y="266976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630040" y="266976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640480" y="266976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652720" y="266976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662800" y="26568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675040" y="265680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685840" y="265680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698080" y="264384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710320" y="264384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5720760" y="264384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5733000" y="264384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743440" y="262872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755680" y="262872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766120" y="262872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778360" y="26157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788800" y="261576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801040" y="261576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5813280" y="261576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5823720" y="260244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5835960" y="2602440"/>
                <a:ext cx="1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5835960" y="260244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846400" y="258768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858640" y="258768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869080" y="258768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881320" y="258768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891760" y="257472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904000" y="257472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916240" y="257472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926680" y="25614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938920" y="256140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949720" y="256140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961960" y="256140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972040" y="254664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984280" y="254664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994720" y="254664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006960" y="254664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019200" y="2533680"/>
                <a:ext cx="1044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030000" y="2533680"/>
                <a:ext cx="1152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041880" y="253368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052680" y="252036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064920" y="252036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075000" y="2520360"/>
                <a:ext cx="180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075000" y="252036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087240" y="250776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097680" y="250776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109920" y="250776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6122160" y="2507760"/>
                <a:ext cx="104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6132960" y="2492640"/>
                <a:ext cx="1224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6145200" y="249264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6155280" y="249264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6167880" y="249264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6177960" y="247932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6190200" y="247932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201000" y="247932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6213240" y="2479320"/>
                <a:ext cx="1152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6225120" y="246672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6235920" y="246672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6248160" y="2466720"/>
                <a:ext cx="1008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6258240" y="2451240"/>
                <a:ext cx="1224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6270840" y="245124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6281280" y="2451240"/>
                <a:ext cx="1152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6293160" y="245124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6303960" y="243828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6316200" y="2438280"/>
                <a:ext cx="1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6316200" y="243828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6328440" y="243828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6338880" y="2425680"/>
                <a:ext cx="12240" cy="126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6351120" y="2425680"/>
                <a:ext cx="1008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6361200" y="242568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6373440" y="2425680"/>
                <a:ext cx="104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6384240" y="2410200"/>
                <a:ext cx="1224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6396480" y="241020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6406920" y="241020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6419160" y="241020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6431400" y="239724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6441840" y="239724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6454080" y="239724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6464520" y="2384640"/>
                <a:ext cx="11520" cy="126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6476400" y="2384640"/>
                <a:ext cx="104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6487200" y="238464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6499440" y="2384640"/>
                <a:ext cx="1008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6509880" y="2369160"/>
                <a:ext cx="1224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6522120" y="236916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6534360" y="236916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6544800" y="23562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6557040" y="2356200"/>
                <a:ext cx="180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6557040" y="235620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6567480" y="2343240"/>
                <a:ext cx="12240" cy="126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6579720" y="2343240"/>
                <a:ext cx="1008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6590160" y="234324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6602400" y="2343240"/>
                <a:ext cx="1008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612840" y="2328120"/>
                <a:ext cx="1224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6625080" y="232812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637320" y="232812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648120" y="2315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660000" y="231516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670440" y="231516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682680" y="231516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6693120" y="2302200"/>
                <a:ext cx="12240" cy="126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6705360" y="2302200"/>
                <a:ext cx="104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716160" y="2302200"/>
                <a:ext cx="1152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6728040" y="2287080"/>
                <a:ext cx="1224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6740280" y="228708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6751080" y="228708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6763320" y="228708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6773400" y="227376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6785640" y="227376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6796080" y="2273760"/>
                <a:ext cx="180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6796080" y="22608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6808320" y="226080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6819120" y="226080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831360" y="2260800"/>
                <a:ext cx="1152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843240" y="224820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853680" y="224820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6866280" y="2248200"/>
                <a:ext cx="1008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6876360" y="224820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6888600" y="2232720"/>
                <a:ext cx="10440" cy="151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6899400" y="2232720"/>
                <a:ext cx="1152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6911280" y="223272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6922080" y="223272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6934320" y="221976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6946560" y="221976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956640" y="221976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969240" y="220716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979320" y="220716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991560" y="2207160"/>
                <a:ext cx="104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02360" y="220716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014600" y="21916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025040" y="2191680"/>
                <a:ext cx="1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025040" y="219168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037280" y="219168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049520" y="217872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059600" y="217872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071840" y="217872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082640" y="2178720"/>
                <a:ext cx="1152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094520" y="216576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105320" y="216576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117560" y="2165760"/>
                <a:ext cx="1008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7128000" y="216576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7140240" y="2165760"/>
                <a:ext cx="12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7152480" y="21506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7162560" y="215064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7174800" y="215064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7185600" y="215064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7197840" y="213768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7208280" y="213768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7220520" y="213768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230600" y="213768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243200" y="2124720"/>
                <a:ext cx="12240" cy="126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255440" y="2124720"/>
                <a:ext cx="104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265880" y="2124720"/>
                <a:ext cx="14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265880" y="2124720"/>
                <a:ext cx="1152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277760" y="2109600"/>
                <a:ext cx="10440" cy="151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288560" y="210960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300800" y="2109600"/>
                <a:ext cx="100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7311240" y="210960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323480" y="210960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7334280" y="209664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7346160" y="209664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358400" y="2096640"/>
                <a:ext cx="104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7368840" y="2096640"/>
                <a:ext cx="12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6" name=""/>
            <p:cNvSpPr/>
            <p:nvPr/>
          </p:nvSpPr>
          <p:spPr>
            <a:xfrm>
              <a:off x="7381800" y="2084040"/>
              <a:ext cx="10080" cy="126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391880" y="2084040"/>
              <a:ext cx="122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404120" y="2084040"/>
              <a:ext cx="10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414560" y="2084040"/>
              <a:ext cx="122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426800" y="2084040"/>
              <a:ext cx="104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437600" y="2068560"/>
              <a:ext cx="12240" cy="15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449840" y="2068560"/>
              <a:ext cx="1152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461720" y="2068560"/>
              <a:ext cx="104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472160" y="2068560"/>
              <a:ext cx="122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484760" y="2068560"/>
              <a:ext cx="1008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494840" y="205560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507080" y="2055600"/>
              <a:ext cx="180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507080" y="2055600"/>
              <a:ext cx="104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517880" y="2055600"/>
              <a:ext cx="1152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7529760" y="2055600"/>
              <a:ext cx="104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540560" y="2042640"/>
              <a:ext cx="1224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7552800" y="2042640"/>
              <a:ext cx="122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7565040" y="2042640"/>
              <a:ext cx="10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575120" y="2042640"/>
              <a:ext cx="122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587720" y="2042640"/>
              <a:ext cx="10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597800" y="202968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610040" y="2029680"/>
              <a:ext cx="104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620840" y="2029680"/>
              <a:ext cx="122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633080" y="2029680"/>
              <a:ext cx="10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643520" y="2029680"/>
              <a:ext cx="122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7655760" y="2014560"/>
              <a:ext cx="12240" cy="15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7668000" y="2014560"/>
              <a:ext cx="1008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678080" y="2014560"/>
              <a:ext cx="122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7690680" y="2014560"/>
              <a:ext cx="104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7701120" y="2014560"/>
              <a:ext cx="1152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713000" y="2001600"/>
              <a:ext cx="10440" cy="126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723800" y="2001600"/>
              <a:ext cx="122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32680" y="551376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mall Fonts"/>
                </a:rPr>
                <a:t>27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24040" y="510300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mall Fonts"/>
                </a:rPr>
                <a:t>32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32680" y="469368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mall Fonts"/>
                </a:rPr>
                <a:t>37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24040" y="428292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mall Fonts"/>
                </a:rPr>
                <a:t>42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32680" y="387360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mall Fonts"/>
                </a:rPr>
                <a:t>47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832680" y="346428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mall Fonts"/>
                </a:rPr>
                <a:t>52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846000" y="305316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mall Fonts"/>
                </a:rPr>
                <a:t>57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24040" y="264384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mall Fonts"/>
                </a:rPr>
                <a:t>62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32680" y="223308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mall Fonts"/>
                </a:rPr>
                <a:t>67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832680" y="182412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mall Fonts"/>
                </a:rPr>
                <a:t>72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846000" y="141300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mall Fonts"/>
                </a:rPr>
                <a:t>77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121400" y="56635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mall Fonts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083320" y="566352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mall Fonts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170160" y="566352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mall Fonts"/>
                </a:rPr>
                <a:t>2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258080" y="566352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mall Fonts"/>
                </a:rPr>
                <a:t>3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357880" y="566352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mall Fonts"/>
                </a:rPr>
                <a:t>4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444000" y="566352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mall Fonts"/>
                </a:rPr>
                <a:t>5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542360" y="566352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mall Fonts"/>
                </a:rPr>
                <a:t>6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8630280" y="566352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mall Fonts"/>
                </a:rPr>
                <a:t>7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rot="16200000">
              <a:off x="-1086840" y="3417120"/>
              <a:ext cx="31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emperature (°K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8" name=""/>
          <p:cNvSpPr/>
          <p:nvPr/>
        </p:nvSpPr>
        <p:spPr>
          <a:xfrm>
            <a:off x="4191480" y="59119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Time (se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A51E4-40D9-40F3-9B5B-7526AF8B027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54FA8-53F5-4141-9CF8-391A97FFC1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king Model - Conclu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esearch will proceed with the embedding of these models in the TEE software and  application to different European cities (e.g. in Florence for the HEARTS Project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pplication of these models with TEE must allow a greater ability to estimate the vehicular emissions in the phase of parking and the cold start emissions (improved distribution of emissions across the networ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C20A9-D2FD-4012-BC34-0C831E424C2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5F2FB-E3F5-440E-BBC5-721B5E7C55BD}" type="datetime1">
              <a:rPr lang="en-US"/>
              <a:t>07/31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TEE – OUTPUT  FILE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I RISULTATI DI EMISSIONI E CONSUMI SONO REGISTRATI IN UNA SERIE DI FILES PER DIVERSI LIVELLI DI AGGREGAZION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Garamond"/>
              </a:rPr>
              <a:t>RISULTATI MICROSCOPIC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in grammi/(vei*km), in corrispondenza di ciascuna MICRO categoria considerata in TEE con disponibilità delle emissioni istantanee, per il ciclo di velocità scelto. 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RISULTATI PER LE MACRO CATEGORIE DI VEICOL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ue ruote, veicoli, light duty vehicles, camion e autobu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PARCHEGGI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RISULTATI AGGREGAT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ggregati per zona o per interea reta, in Kg/Ora. Il livello di aggregazione è impostato nella sezione di imput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OUTPUT per i MODELLI DI DISPERSIO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er ciascun link della rete in g/km/se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FORMAZIONI SUI CALCOLI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utti i messaggi creati durante il runn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DE5DE-D795-44FA-99FC-780A6A751B4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25A5A-1176-4381-B5E0-F8CE7DE78B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TEE  SOFTWAR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Garamond"/>
              </a:rPr>
              <a:t>TEE 2005 MODEL OFFRE UNA VARIETA DI SOLUZIONI, NELLA FASE DI INPUT E NEL LIVELLO DI ACCURATEZZA RICHIESTO, NELLA RAPPRESENTAZIONE DEI PIU IMPORTANTI PROCESSI RIGUARDANTI LE EMISSIONI VEICOLARI: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ff99"/>
                </a:solidFill>
                <a:latin typeface="Garamond"/>
              </a:rPr>
              <a:t>CINEMATICA DEL VEICOLO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ff99"/>
                </a:solidFill>
                <a:latin typeface="Garamond"/>
              </a:rPr>
              <a:t>PROCESSO DI PARCHEGGIO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ff99"/>
                </a:solidFill>
                <a:latin typeface="Garamond"/>
              </a:rPr>
              <a:t>EMISSSIONI EVAPORATIVE E COLD START EMISSION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ff99"/>
                </a:solidFill>
                <a:latin typeface="Garamond"/>
              </a:rPr>
              <a:t>ALTRI FATTORI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Garamond"/>
              </a:rPr>
              <a:t>CON I NUOVI MODELLI RIGUARDANTI RUMORE, INCIDENTALITA, PEDONI E PARCHEGGIO SVILUPPATI ALL’INTERNO DEL PROGETTO HEARTS IL SOFTWARE TEE DIVENTA UN INNOVATIVO STRUMENTO NELLA VALUTAZIONE DEGLI IMPATTI DIRETTI DAL SISTEMA DI TRASPORTO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F0198-6875-4CAC-852F-9D6D649003D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175E7-DE76-478F-926E-6F86402FF2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LABORAZIONE DATI DI TRAFFICO 1/4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036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CALCOLO DEL NUMERO DI VEICOLI DI CIASCUNA CLASSE VEICOLARE A PARTIRE DAL FLUSSO VEICOLARE TOTAL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Garamond"/>
              </a:rPr>
              <a:t>Il FLUSSO PARCHEGGIANTE ED INSERENTE FORNITO AL TEE COME INPUT E ULTERIORMENTE DISTRIBUITO FRA LE CATEGORIE PRESENTE SUL LINK PROPORZIONALMENTE ALLA CAPACITA DELLE AREE DI PARCHEGGI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OPZIONI CINEMATICHE AL FLUSSO DI CIASCUN ARCO, UNA PER OGNI TIPOLOGIA DI FLUSSO CONSIDERATA NEL CODICE (TRANSITANTE, PARCHEGGIANTE, INSERENTE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61228-B167-4DD5-9C2F-208CBAA957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F69DF-AB2E-47E2-A7EB-DC6A90C82B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520" y="1752120"/>
            <a:ext cx="84963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Garamond"/>
              </a:rPr>
              <a:t>Opzioni cinematich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modello </a:t>
            </a: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VELOCITA MEDIA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modello </a:t>
            </a: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‘CICLO DETTAGLIATO DI VELOCITA’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Modello </a:t>
            </a: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‘SIMPLIFIED RECONSTRUCTED CYCLE’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  (SRC Mode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‘</a:t>
            </a: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KINEMATICS CORRECTION FUNCTION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 Model’ (KC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LABORAZIONE DATI DI TRAFFICO 2/4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LUSSO TRANSIT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09C21-1F50-42A5-92A0-0D41B4E2F2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69D29-CF35-4B09-A0E3-1EF61FD6D8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ELABORAZIONE DEI DATI DI TRAFFICO 3/4</a:t>
            </a:r>
            <a:br>
              <a:rPr sz="2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SIMPLIFIED  REC. CYCLE MODEL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IL CICLO SEMPLIFICATO E UN DIAGRAMA DI VELOCITA LUNGO L’ARCO ASSOCIATO ALLE CONDIZIONI DI TRAFFICO RICOSTRUITO IN FUNZIONE DI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Garamond"/>
              </a:rPr>
              <a:t>VELOCITA MEDIA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 LUNGO L’ARC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Garamond"/>
              </a:rPr>
              <a:t>‘</a:t>
            </a:r>
            <a:r>
              <a:rPr b="1" lang="en-GB" sz="2600" spc="-1" strike="noStrike">
                <a:solidFill>
                  <a:srgbClr val="ffcc00"/>
                </a:solidFill>
                <a:latin typeface="Garamond"/>
              </a:rPr>
              <a:t>DENSITA LINEARE’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 DELLE CORSIE DELL’ARCO (veh/km corsia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Garamond"/>
              </a:rPr>
              <a:t>FRAZIONE DI TEMPO DI VERDE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 ALLA FINE DEL LINK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00"/>
                </a:solidFill>
                <a:latin typeface="Garamond"/>
              </a:rPr>
              <a:t>LUNGHEZZA DEL LINK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B7431-A620-4788-B50E-45D09D7D4E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AA9B3-099B-4CBB-8767-384295CD2C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ELABORAZIONE DEI DATI DI TRAFFICO 4/4</a:t>
            </a:r>
            <a:br>
              <a:rPr sz="2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SIMPLIFIED REC. CYCLE  MODEL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640" y="1600200"/>
            <a:ext cx="489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The SRC si ottiene con la stima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00"/>
                </a:solidFill>
                <a:latin typeface="Garamond"/>
              </a:rPr>
              <a:t>FRAZIONE DI TEMPO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cc00"/>
                </a:solidFill>
                <a:latin typeface="Garamond"/>
              </a:rPr>
              <a:t>A velocità costant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cc00"/>
                </a:solidFill>
                <a:latin typeface="Garamond"/>
              </a:rPr>
              <a:t>In accelerazion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cc00"/>
                </a:solidFill>
                <a:latin typeface="Garamond"/>
              </a:rPr>
              <a:t>In decelerazion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cc00"/>
                </a:solidFill>
                <a:latin typeface="Garamond"/>
              </a:rPr>
              <a:t>Idlin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00"/>
                </a:solidFill>
                <a:latin typeface="Garamond"/>
              </a:rPr>
              <a:t>NUMERO DI ACCELERAZIONI E DECELERAZIONI</a:t>
            </a: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, stimate dal ‘tempo di accelerazione’, calcolate a partire  ‘acceleration time’  e una velocità dipendente dal tasso di accelerazione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00"/>
                </a:solidFill>
                <a:latin typeface="Garamond"/>
              </a:rPr>
              <a:t>NUMERO DI STOPS</a:t>
            </a: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 , in funzione della densità lineare, include il numero di fermate dovute ai cicli semaforici e lungo l’arco dovuto alla congestio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5292720" y="494172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5e5ff"/>
                </a:solidFill>
                <a:latin typeface="Garamond"/>
              </a:rPr>
              <a:t>Fig. 1: two examples of reconstruc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5e5ff"/>
                </a:solidFill>
                <a:latin typeface="Garamond"/>
              </a:rPr>
              <a:t>          </a:t>
            </a:r>
            <a:r>
              <a:rPr b="1" lang="en-US" sz="1600" spc="-1" strike="noStrike">
                <a:solidFill>
                  <a:srgbClr val="e5e5ff"/>
                </a:solidFill>
                <a:latin typeface="Garamond"/>
              </a:rPr>
              <a:t>speed cycle</a:t>
            </a:r>
            <a:r>
              <a:rPr b="1" lang="it-IT" sz="1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2060640"/>
            <a:ext cx="3529080" cy="28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75240" y="4421160"/>
            <a:ext cx="3087720" cy="1440"/>
          </a:xfrm>
          <a:prstGeom prst="line">
            <a:avLst/>
          </a:prstGeom>
          <a:ln w="1260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75240" y="2550960"/>
            <a:ext cx="1800" cy="1870200"/>
          </a:xfrm>
          <a:prstGeom prst="line">
            <a:avLst/>
          </a:prstGeom>
          <a:ln w="1260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02160" y="450864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80000" y="248292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60840" y="3386160"/>
            <a:ext cx="266760" cy="1036440"/>
          </a:xfrm>
          <a:custGeom>
            <a:avLst/>
            <a:gdLst/>
            <a:ahLst/>
            <a:rect l="l" t="t" r="r" b="b"/>
            <a:pathLst>
              <a:path w="168" h="653">
                <a:moveTo>
                  <a:pt x="168" y="3"/>
                </a:moveTo>
                <a:lnTo>
                  <a:pt x="160" y="0"/>
                </a:lnTo>
                <a:lnTo>
                  <a:pt x="0" y="650"/>
                </a:lnTo>
                <a:lnTo>
                  <a:pt x="7" y="653"/>
                </a:lnTo>
                <a:lnTo>
                  <a:pt x="168" y="3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13560" y="3386160"/>
            <a:ext cx="266400" cy="1036440"/>
          </a:xfrm>
          <a:custGeom>
            <a:avLst/>
            <a:gdLst/>
            <a:ahLst/>
            <a:rect l="l" t="t" r="r" b="b"/>
            <a:pathLst>
              <a:path w="168" h="653">
                <a:moveTo>
                  <a:pt x="7" y="0"/>
                </a:moveTo>
                <a:lnTo>
                  <a:pt x="0" y="3"/>
                </a:lnTo>
                <a:lnTo>
                  <a:pt x="161" y="653"/>
                </a:lnTo>
                <a:lnTo>
                  <a:pt x="168" y="650"/>
                </a:lnTo>
                <a:lnTo>
                  <a:pt x="7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65920" y="3386160"/>
            <a:ext cx="266760" cy="1036440"/>
          </a:xfrm>
          <a:custGeom>
            <a:avLst/>
            <a:gdLst/>
            <a:ahLst/>
            <a:rect l="l" t="t" r="r" b="b"/>
            <a:pathLst>
              <a:path w="168" h="653">
                <a:moveTo>
                  <a:pt x="168" y="3"/>
                </a:moveTo>
                <a:lnTo>
                  <a:pt x="161" y="0"/>
                </a:lnTo>
                <a:lnTo>
                  <a:pt x="0" y="650"/>
                </a:lnTo>
                <a:lnTo>
                  <a:pt x="8" y="653"/>
                </a:lnTo>
                <a:lnTo>
                  <a:pt x="168" y="3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19720" y="3386160"/>
            <a:ext cx="266760" cy="1036440"/>
          </a:xfrm>
          <a:custGeom>
            <a:avLst/>
            <a:gdLst/>
            <a:ahLst/>
            <a:rect l="l" t="t" r="r" b="b"/>
            <a:pathLst>
              <a:path w="168" h="653">
                <a:moveTo>
                  <a:pt x="7" y="0"/>
                </a:moveTo>
                <a:lnTo>
                  <a:pt x="0" y="3"/>
                </a:lnTo>
                <a:lnTo>
                  <a:pt x="160" y="653"/>
                </a:lnTo>
                <a:lnTo>
                  <a:pt x="168" y="650"/>
                </a:lnTo>
                <a:lnTo>
                  <a:pt x="7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2080" y="3386160"/>
            <a:ext cx="266760" cy="1036440"/>
          </a:xfrm>
          <a:custGeom>
            <a:avLst/>
            <a:gdLst/>
            <a:ahLst/>
            <a:rect l="l" t="t" r="r" b="b"/>
            <a:pathLst>
              <a:path w="168" h="653">
                <a:moveTo>
                  <a:pt x="168" y="3"/>
                </a:moveTo>
                <a:lnTo>
                  <a:pt x="161" y="0"/>
                </a:lnTo>
                <a:lnTo>
                  <a:pt x="0" y="650"/>
                </a:lnTo>
                <a:lnTo>
                  <a:pt x="8" y="653"/>
                </a:lnTo>
                <a:lnTo>
                  <a:pt x="168" y="3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30920" y="3379680"/>
            <a:ext cx="711360" cy="17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34360" y="3386160"/>
            <a:ext cx="266760" cy="1036440"/>
          </a:xfrm>
          <a:custGeom>
            <a:avLst/>
            <a:gdLst/>
            <a:ahLst/>
            <a:rect l="l" t="t" r="r" b="b"/>
            <a:pathLst>
              <a:path w="168" h="653">
                <a:moveTo>
                  <a:pt x="8" y="0"/>
                </a:moveTo>
                <a:lnTo>
                  <a:pt x="0" y="3"/>
                </a:lnTo>
                <a:lnTo>
                  <a:pt x="161" y="653"/>
                </a:lnTo>
                <a:lnTo>
                  <a:pt x="168" y="650"/>
                </a:lnTo>
                <a:lnTo>
                  <a:pt x="8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65880" y="2886120"/>
            <a:ext cx="1368360" cy="1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29560" y="2887560"/>
            <a:ext cx="212760" cy="206640"/>
          </a:xfrm>
          <a:custGeom>
            <a:avLst/>
            <a:gdLst/>
            <a:ahLst/>
            <a:rect l="l" t="t" r="r" b="b"/>
            <a:pathLst>
              <a:path w="134" h="130">
                <a:moveTo>
                  <a:pt x="5" y="0"/>
                </a:moveTo>
                <a:lnTo>
                  <a:pt x="0" y="8"/>
                </a:lnTo>
                <a:lnTo>
                  <a:pt x="128" y="130"/>
                </a:lnTo>
                <a:lnTo>
                  <a:pt x="134" y="122"/>
                </a:lnTo>
                <a:lnTo>
                  <a:pt x="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31160" y="2887560"/>
            <a:ext cx="210960" cy="206640"/>
          </a:xfrm>
          <a:custGeom>
            <a:avLst/>
            <a:gdLst/>
            <a:ahLst/>
            <a:rect l="l" t="t" r="r" b="b"/>
            <a:pathLst>
              <a:path w="133" h="130">
                <a:moveTo>
                  <a:pt x="133" y="8"/>
                </a:moveTo>
                <a:lnTo>
                  <a:pt x="129" y="0"/>
                </a:lnTo>
                <a:lnTo>
                  <a:pt x="0" y="122"/>
                </a:lnTo>
                <a:lnTo>
                  <a:pt x="5" y="130"/>
                </a:lnTo>
                <a:lnTo>
                  <a:pt x="133" y="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4200" y="2887560"/>
            <a:ext cx="212760" cy="206640"/>
          </a:xfrm>
          <a:custGeom>
            <a:avLst/>
            <a:gdLst/>
            <a:ahLst/>
            <a:rect l="l" t="t" r="r" b="b"/>
            <a:pathLst>
              <a:path w="134" h="130">
                <a:moveTo>
                  <a:pt x="5" y="0"/>
                </a:moveTo>
                <a:lnTo>
                  <a:pt x="0" y="8"/>
                </a:lnTo>
                <a:lnTo>
                  <a:pt x="128" y="130"/>
                </a:lnTo>
                <a:lnTo>
                  <a:pt x="134" y="122"/>
                </a:lnTo>
                <a:lnTo>
                  <a:pt x="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35800" y="2887560"/>
            <a:ext cx="211320" cy="206640"/>
          </a:xfrm>
          <a:custGeom>
            <a:avLst/>
            <a:gdLst/>
            <a:ahLst/>
            <a:rect l="l" t="t" r="r" b="b"/>
            <a:pathLst>
              <a:path w="133" h="130">
                <a:moveTo>
                  <a:pt x="133" y="8"/>
                </a:moveTo>
                <a:lnTo>
                  <a:pt x="129" y="0"/>
                </a:lnTo>
                <a:lnTo>
                  <a:pt x="0" y="122"/>
                </a:lnTo>
                <a:lnTo>
                  <a:pt x="5" y="130"/>
                </a:lnTo>
                <a:lnTo>
                  <a:pt x="133" y="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42080" y="2886120"/>
            <a:ext cx="660600" cy="1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65880" y="3067200"/>
            <a:ext cx="52200" cy="144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88000" y="2347920"/>
            <a:ext cx="1944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514"/>
                </a:solidFill>
                <a:latin typeface="Garamond"/>
              </a:rPr>
              <a:t>HIGH SPEED CYCL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514"/>
                </a:solidFill>
                <a:latin typeface="Garamond"/>
              </a:rPr>
              <a:t>(low density, no traffic light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12000" y="3432240"/>
            <a:ext cx="72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514"/>
                </a:solidFill>
                <a:latin typeface="Garamond"/>
              </a:rPr>
              <a:t>LOW SPEED CYCLE (high density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01120" y="4437000"/>
            <a:ext cx="720720" cy="0"/>
          </a:xfrm>
          <a:prstGeom prst="line">
            <a:avLst/>
          </a:prstGeom>
          <a:ln w="158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6C018-2211-4632-B49D-056F815C73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EDA80-7B51-4CB1-B5E8-A2FEA2B914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5486400"/>
            <a:ext cx="899172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TIME FRACTIONS OF KINEMATIC PHASES   VS  TRAFFIC NORMALIZED  DENS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58960" y="333360"/>
          <a:ext cx="775152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333360"/>
                    <a:ext cx="775152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7EE4E-5D40-40A1-948E-058F217005D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22820-C7A1-4B01-9116-ECC6C6F3B9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2895480" y="2209680"/>
            <a:ext cx="3326040" cy="3465720"/>
            <a:chOff x="2895480" y="2209680"/>
            <a:chExt cx="3326040" cy="3465720"/>
          </a:xfrm>
        </p:grpSpPr>
        <p:sp>
          <p:nvSpPr>
            <p:cNvPr id="152" name=""/>
            <p:cNvSpPr/>
            <p:nvPr/>
          </p:nvSpPr>
          <p:spPr>
            <a:xfrm>
              <a:off x="2895480" y="2209680"/>
              <a:ext cx="3124440" cy="3465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971800" y="2209680"/>
              <a:ext cx="3249720" cy="3276720"/>
              <a:chOff x="2971800" y="2209680"/>
              <a:chExt cx="3249720" cy="3276720"/>
            </a:xfrm>
          </p:grpSpPr>
          <p:sp>
            <p:nvSpPr>
              <p:cNvPr id="154" name=""/>
              <p:cNvSpPr/>
              <p:nvPr/>
            </p:nvSpPr>
            <p:spPr>
              <a:xfrm>
                <a:off x="2971800" y="2209680"/>
                <a:ext cx="2971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1520" indent="-10152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Traffic Modelling Modul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71800" y="2738520"/>
                <a:ext cx="2743200" cy="53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90440" indent="-190440">
                  <a:lnSpc>
                    <a:spcPct val="100000"/>
                  </a:lnSpc>
                  <a:spcAft>
                    <a:spcPts val="601"/>
                  </a:spcAft>
                  <a:buClr>
                    <a:srgbClr val="0000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ff"/>
                    </a:solidFill>
                    <a:latin typeface="Times New Roman"/>
                  </a:rPr>
                  <a:t>739 oriented link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90440" indent="-190440">
                  <a:lnSpc>
                    <a:spcPct val="100000"/>
                  </a:lnSpc>
                  <a:spcAft>
                    <a:spcPts val="601"/>
                  </a:spcAft>
                  <a:buClr>
                    <a:srgbClr val="0000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ff"/>
                    </a:solidFill>
                    <a:latin typeface="Times New Roman"/>
                  </a:rPr>
                  <a:t>282 endpoint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90440" indent="-190440">
                  <a:lnSpc>
                    <a:spcPct val="100000"/>
                  </a:lnSpc>
                  <a:spcAft>
                    <a:spcPts val="601"/>
                  </a:spcAft>
                  <a:buClr>
                    <a:srgbClr val="0000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ff"/>
                    </a:solidFill>
                    <a:latin typeface="Times New Roman"/>
                  </a:rPr>
                  <a:t>51 centroids</a:t>
                </a:r>
                <a:r>
                  <a:rPr b="0" lang="it-IT" sz="12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971800" y="3541680"/>
                <a:ext cx="180504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01520" indent="-101520">
                  <a:lnSpc>
                    <a:spcPct val="100000"/>
                  </a:lnSpc>
                  <a:buClr>
                    <a:srgbClr val="ffffff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Assignment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971800" y="3805200"/>
                <a:ext cx="3249720" cy="53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90440" indent="-190440">
                  <a:lnSpc>
                    <a:spcPct val="100000"/>
                  </a:lnSpc>
                  <a:spcAft>
                    <a:spcPts val="601"/>
                  </a:spcAft>
                  <a:buClr>
                    <a:srgbClr val="0000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ff"/>
                    </a:solidFill>
                    <a:latin typeface="Times New Roman"/>
                  </a:rPr>
                  <a:t>TransCAD Transportation GIS Softwar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90440" indent="-190440">
                  <a:lnSpc>
                    <a:spcPct val="100000"/>
                  </a:lnSpc>
                  <a:spcAft>
                    <a:spcPts val="601"/>
                  </a:spcAft>
                  <a:buClr>
                    <a:srgbClr val="0000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ff"/>
                    </a:solidFill>
                    <a:latin typeface="Times New Roman"/>
                  </a:rPr>
                  <a:t>Model: Deterministic User Equilibrium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90440" indent="-190440">
                  <a:lnSpc>
                    <a:spcPct val="100000"/>
                  </a:lnSpc>
                  <a:spcAft>
                    <a:spcPts val="601"/>
                  </a:spcAft>
                  <a:buClr>
                    <a:srgbClr val="0000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ff"/>
                    </a:solidFill>
                    <a:latin typeface="Times New Roman"/>
                  </a:rPr>
                  <a:t>Computational time: </a:t>
                </a:r>
                <a:r>
                  <a:rPr b="1" lang="en-GB" sz="1200" spc="-1" strike="noStrike">
                    <a:solidFill>
                      <a:srgbClr val="ffcc00"/>
                    </a:solidFill>
                    <a:latin typeface="Times New Roman"/>
                  </a:rPr>
                  <a:t>25''</a:t>
                </a:r>
                <a:r>
                  <a:rPr b="0" lang="it-IT" sz="1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971800" y="4648320"/>
                <a:ext cx="2895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01520" indent="-101520">
                  <a:lnSpc>
                    <a:spcPct val="100000"/>
                  </a:lnSpc>
                  <a:buClr>
                    <a:srgbClr val="ffffff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ffffff"/>
                    </a:solidFill>
                    <a:latin typeface="Times New Roman"/>
                  </a:rPr>
                  <a:t>O/D </a:t>
                </a: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Matrix Correction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971800" y="4948200"/>
                <a:ext cx="2789280" cy="53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90440" indent="-190440">
                  <a:lnSpc>
                    <a:spcPct val="100000"/>
                  </a:lnSpc>
                  <a:spcAft>
                    <a:spcPts val="601"/>
                  </a:spcAft>
                  <a:buClr>
                    <a:srgbClr val="0000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ff"/>
                    </a:solidFill>
                    <a:latin typeface="Times New Roman"/>
                  </a:rPr>
                  <a:t>Correction Algorithm developed and implemented by ST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90440" indent="-190440">
                  <a:lnSpc>
                    <a:spcPct val="100000"/>
                  </a:lnSpc>
                  <a:spcAft>
                    <a:spcPts val="601"/>
                  </a:spcAft>
                  <a:buClr>
                    <a:srgbClr val="0000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ff"/>
                    </a:solidFill>
                    <a:latin typeface="Times New Roman"/>
                  </a:rPr>
                  <a:t>Computational time:</a:t>
                </a:r>
                <a:r>
                  <a:rPr b="1" lang="it-IT" sz="1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1" lang="it-IT" sz="1200" spc="-1" strike="noStrike">
                    <a:solidFill>
                      <a:srgbClr val="ffcc00"/>
                    </a:solidFill>
                    <a:latin typeface="Times New Roman"/>
                  </a:rPr>
                  <a:t>10''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6095880" y="2209680"/>
            <a:ext cx="2919600" cy="3467160"/>
            <a:chOff x="6095880" y="2209680"/>
            <a:chExt cx="2919600" cy="3467160"/>
          </a:xfrm>
        </p:grpSpPr>
        <p:sp>
          <p:nvSpPr>
            <p:cNvPr id="161" name=""/>
            <p:cNvSpPr/>
            <p:nvPr/>
          </p:nvSpPr>
          <p:spPr>
            <a:xfrm>
              <a:off x="6095880" y="2209680"/>
              <a:ext cx="2919600" cy="346716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6248520" y="2209680"/>
              <a:ext cx="2743200" cy="3200400"/>
              <a:chOff x="6248520" y="2209680"/>
              <a:chExt cx="2743200" cy="3200400"/>
            </a:xfrm>
          </p:grpSpPr>
          <p:sp>
            <p:nvSpPr>
              <p:cNvPr id="163" name=""/>
              <p:cNvSpPr/>
              <p:nvPr/>
            </p:nvSpPr>
            <p:spPr>
              <a:xfrm>
                <a:off x="6248520" y="2209680"/>
                <a:ext cx="2743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Air Pollution  Modelling Modul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324480" y="2590920"/>
                <a:ext cx="180360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TEE Model</a:t>
                </a:r>
                <a:r>
                  <a:rPr b="1" lang="it-IT" sz="1200" spc="-1" strike="noStrike">
                    <a:solidFill>
                      <a:srgbClr val="ffffff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400800" y="2819520"/>
                <a:ext cx="2543040" cy="98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90440" indent="-190440">
                  <a:lnSpc>
                    <a:spcPct val="100000"/>
                  </a:lnSpc>
                  <a:spcAft>
                    <a:spcPts val="601"/>
                  </a:spcAft>
                  <a:buClr>
                    <a:srgbClr val="0000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ff"/>
                    </a:solidFill>
                    <a:latin typeface="Times New Roman"/>
                  </a:rPr>
                  <a:t>Input: road network static data and traffic dat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90440" indent="-190440">
                  <a:lnSpc>
                    <a:spcPct val="100000"/>
                  </a:lnSpc>
                  <a:spcAft>
                    <a:spcPts val="601"/>
                  </a:spcAft>
                  <a:buClr>
                    <a:srgbClr val="0000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ff"/>
                    </a:solidFill>
                    <a:latin typeface="Times New Roman"/>
                  </a:rPr>
                  <a:t>Outputs: emission data (CO, Benzene and NOx) for each link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90440" indent="-190440">
                  <a:lnSpc>
                    <a:spcPct val="100000"/>
                  </a:lnSpc>
                  <a:spcAft>
                    <a:spcPts val="601"/>
                  </a:spcAft>
                  <a:buClr>
                    <a:srgbClr val="0000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ff"/>
                    </a:solidFill>
                    <a:latin typeface="Times New Roman"/>
                  </a:rPr>
                  <a:t>Computational time: </a:t>
                </a:r>
                <a:r>
                  <a:rPr b="1" lang="en-GB" sz="1200" spc="-1" strike="noStrike">
                    <a:solidFill>
                      <a:srgbClr val="ffcc00"/>
                    </a:solidFill>
                    <a:latin typeface="Times New Roman"/>
                  </a:rPr>
                  <a:t>120''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00800" y="4038480"/>
                <a:ext cx="1803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ADMS Model</a:t>
                </a:r>
                <a:r>
                  <a:rPr b="1" lang="it-IT" sz="1200" spc="-1" strike="noStrike">
                    <a:solidFill>
                      <a:srgbClr val="ffffff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37160" y="4275000"/>
                <a:ext cx="2543400" cy="11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90440" indent="-190440">
                  <a:lnSpc>
                    <a:spcPct val="100000"/>
                  </a:lnSpc>
                  <a:spcAft>
                    <a:spcPts val="601"/>
                  </a:spcAft>
                  <a:buClr>
                    <a:srgbClr val="0000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ff"/>
                    </a:solidFill>
                    <a:latin typeface="Times New Roman"/>
                  </a:rPr>
                  <a:t>Input: road network static data, emission data and met dat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90440" indent="-190440">
                  <a:lnSpc>
                    <a:spcPct val="100000"/>
                  </a:lnSpc>
                  <a:spcAft>
                    <a:spcPts val="601"/>
                  </a:spcAft>
                  <a:buClr>
                    <a:srgbClr val="0000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ff"/>
                    </a:solidFill>
                    <a:latin typeface="Times New Roman"/>
                  </a:rPr>
                  <a:t>Output: concentrations (CO, Benzene and NOx) on a regular gri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90440" indent="-190440">
                  <a:lnSpc>
                    <a:spcPct val="100000"/>
                  </a:lnSpc>
                  <a:spcAft>
                    <a:spcPts val="601"/>
                  </a:spcAft>
                  <a:buClr>
                    <a:srgbClr val="0000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ff"/>
                    </a:solidFill>
                    <a:latin typeface="Times New Roman"/>
                  </a:rPr>
                  <a:t>Computational time: </a:t>
                </a:r>
                <a:r>
                  <a:rPr b="1" lang="en-GB" sz="1200" spc="-1" strike="noStrike">
                    <a:solidFill>
                      <a:srgbClr val="ffcc00"/>
                    </a:solidFill>
                    <a:latin typeface="Times New Roman"/>
                  </a:rPr>
                  <a:t>600''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380880" y="5689440"/>
            <a:ext cx="8658000" cy="541440"/>
            <a:chOff x="380880" y="5689440"/>
            <a:chExt cx="8658000" cy="541440"/>
          </a:xfrm>
        </p:grpSpPr>
        <p:sp>
          <p:nvSpPr>
            <p:cNvPr id="169" name=""/>
            <p:cNvSpPr/>
            <p:nvPr/>
          </p:nvSpPr>
          <p:spPr>
            <a:xfrm>
              <a:off x="380880" y="6053040"/>
              <a:ext cx="8412120" cy="777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98680" y="5689440"/>
              <a:ext cx="4111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61080" y="5689440"/>
              <a:ext cx="4111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85280" y="5689440"/>
              <a:ext cx="4125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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54240" y="5749920"/>
              <a:ext cx="574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5'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16640" y="5749920"/>
              <a:ext cx="574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5'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196120" y="5749920"/>
              <a:ext cx="573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60'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8836560" y="6028560"/>
              <a:ext cx="237960" cy="1666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80880" y="2171880"/>
            <a:ext cx="2514600" cy="3466800"/>
            <a:chOff x="380880" y="2171880"/>
            <a:chExt cx="2514600" cy="3466800"/>
          </a:xfrm>
        </p:grpSpPr>
        <p:sp>
          <p:nvSpPr>
            <p:cNvPr id="178" name=""/>
            <p:cNvSpPr/>
            <p:nvPr/>
          </p:nvSpPr>
          <p:spPr>
            <a:xfrm>
              <a:off x="380880" y="2195640"/>
              <a:ext cx="2438640" cy="34430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520" y="2171880"/>
              <a:ext cx="220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Interfaces Wit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Existing/External System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3520" y="2666880"/>
              <a:ext cx="20509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Times New Roman"/>
                </a:rPr>
                <a:t>UTC and TCC Interfaces</a:t>
              </a:r>
              <a:r>
                <a:rPr b="0" lang="en-GB" sz="1200" spc="-1" strike="noStrike">
                  <a:solidFill>
                    <a:srgbClr val="003399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3520" y="2895480"/>
              <a:ext cx="19684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90440" indent="-190440">
                <a:lnSpc>
                  <a:spcPct val="100000"/>
                </a:lnSpc>
                <a:spcAft>
                  <a:spcPts val="601"/>
                </a:spcAft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Times New Roman"/>
                </a:rPr>
                <a:t>279 measurement stations: </a:t>
              </a:r>
              <a:r>
                <a:rPr b="1" i="1" lang="en-GB" sz="1200" spc="-1" strike="noStrike">
                  <a:solidFill>
                    <a:srgbClr val="0000ff"/>
                  </a:solidFill>
                  <a:latin typeface="Times New Roman"/>
                </a:rPr>
                <a:t>flow, speed, queue, occupanc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90440" indent="-190440">
                <a:lnSpc>
                  <a:spcPct val="100000"/>
                </a:lnSpc>
                <a:spcAft>
                  <a:spcPts val="601"/>
                </a:spcAft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Times New Roman"/>
                </a:rPr>
                <a:t>data acquisition every </a:t>
              </a:r>
              <a:r>
                <a:rPr b="1" lang="en-GB" sz="1200" spc="-1" strike="noStrike">
                  <a:solidFill>
                    <a:srgbClr val="ffcc00"/>
                  </a:solidFill>
                  <a:latin typeface="Times New Roman"/>
                </a:rPr>
                <a:t>5'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90440" indent="-190440">
                <a:lnSpc>
                  <a:spcPct val="100000"/>
                </a:lnSpc>
                <a:spcAft>
                  <a:spcPts val="601"/>
                </a:spcAft>
                <a:buClr>
                  <a:srgbClr val="ffcc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3520" y="3809880"/>
              <a:ext cx="180324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Times New Roman"/>
                </a:rPr>
                <a:t>METEO Interface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4038480"/>
              <a:ext cx="23619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90440" indent="-190440">
                <a:lnSpc>
                  <a:spcPct val="100000"/>
                </a:lnSpc>
                <a:spcAft>
                  <a:spcPts val="601"/>
                </a:spcAft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Times New Roman"/>
                </a:rPr>
                <a:t>Integrated interface self-updating with observed dat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90440" indent="-190440">
                <a:lnSpc>
                  <a:spcPct val="100000"/>
                </a:lnSpc>
                <a:spcAft>
                  <a:spcPts val="601"/>
                </a:spcAft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Times New Roman"/>
                </a:rPr>
                <a:t>data acquisition every </a:t>
              </a:r>
              <a:r>
                <a:rPr b="1" lang="en-GB" sz="1200" spc="-1" strike="noStrike">
                  <a:solidFill>
                    <a:srgbClr val="ffcc00"/>
                  </a:solidFill>
                  <a:latin typeface="Times New Roman"/>
                </a:rPr>
                <a:t>60'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3520" y="4800600"/>
              <a:ext cx="2133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GB" sz="1200" spc="-1" strike="noStrike">
                  <a:solidFill>
                    <a:srgbClr val="003399"/>
                  </a:solidFill>
                  <a:latin typeface="Times New Roman"/>
                </a:rPr>
                <a:t>Air Quality data Interface</a:t>
              </a: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5029200"/>
              <a:ext cx="2209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90440" indent="-190440">
                <a:lnSpc>
                  <a:spcPct val="100000"/>
                </a:lnSpc>
                <a:spcAft>
                  <a:spcPts val="601"/>
                </a:spcAft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Times New Roman"/>
                </a:rPr>
                <a:t>Integrated interfac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90440" indent="-190440">
                <a:lnSpc>
                  <a:spcPct val="100000"/>
                </a:lnSpc>
                <a:spcAft>
                  <a:spcPts val="601"/>
                </a:spcAft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Times New Roman"/>
                </a:rPr>
                <a:t>data acquisition every </a:t>
              </a:r>
              <a:r>
                <a:rPr b="1" lang="en-GB" sz="1200" spc="-1" strike="noStrike">
                  <a:solidFill>
                    <a:srgbClr val="000066"/>
                  </a:solidFill>
                  <a:latin typeface="Times New Roman"/>
                </a:rPr>
                <a:t>d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8600" y="1447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The On-line HEAVEN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6560" y="34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685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5e5ff"/>
                </a:solidFill>
                <a:latin typeface="Times New Roman"/>
              </a:rPr>
              <a:t>TEE Application in HEAVEN  Project (FP5 I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XPERT PANEL  Emissioni da Trasporto su Strada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B9C8E-D0C8-4292-AF14-C4B101ADC4A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42364-85AD-44E3-BB9A-89C933F0EF6D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9:33:33Z</dcterms:created>
  <dc:creator>enea</dc:creator>
  <dc:description/>
  <dc:language>en-US</dc:language>
  <cp:lastModifiedBy>piccolo</cp:lastModifiedBy>
  <dcterms:modified xsi:type="dcterms:W3CDTF">2005-06-21T09:41:15Z</dcterms:modified>
  <cp:revision>155</cp:revision>
  <dc:subject/>
  <dc:title>AN ADVANCED SOFTWARE TOOL FOR VEHICULAR EMISSIONS DISAGGREGATE ESTIMATION</dc:title>
</cp:coreProperties>
</file>